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4856-64E7-4174-8F41-BA0D5E8DF2D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8E64-F484-4F2A-BC33-658E2C6148CA}" type="slidenum">
              <a:rPr b="0" lang="el-G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1935-C3A1-4211-9395-2AB1359590F0}" type="slidenum">
              <a:rPr b="0" lang="el-G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900A-6DE2-4D92-857C-AF14AF2439C6}" type="slidenum">
              <a:rPr b="0" lang="el-G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392-0E8E-42E1-917A-AB041FE6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DC6-0566-46AB-9567-C3CEE63D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1C4-C05B-4D28-AF2C-C029194B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5E7-A763-4B8A-B892-7066C9F5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6C1-0139-4043-899A-35EEB99D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358-6E5B-406D-939C-5AD20BED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5B0-576A-405E-8302-555D935A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6EB-0AB9-40D5-9A26-93710BAD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95B-144D-4940-8BEC-713D17BE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513-4AF4-4393-9B62-4127A131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D7C-6041-4381-A4D5-9CE05A4F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A7D-FB57-4047-8658-4B10AD4E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C13D-3D79-4768-B8DC-65394C54ADF8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- TextBox"/>
          <p:cNvSpPr/>
          <p:nvPr/>
        </p:nvSpPr>
        <p:spPr>
          <a:xfrm>
            <a:off x="428760" y="1403280"/>
            <a:ext cx="59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Calibri"/>
              </a:rPr>
              <a:t>Ένα μάθημα για τον  «ιστορικό χρόνο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2 - TextBox"/>
          <p:cNvSpPr/>
          <p:nvPr/>
        </p:nvSpPr>
        <p:spPr>
          <a:xfrm>
            <a:off x="1773360" y="39243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alibri"/>
              </a:rPr>
              <a:t>Σχεδίαση-εφαρμογή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alibri"/>
              </a:rPr>
              <a:t>Χρίστος Π. Φαράκλα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3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4 - TextBox"/>
          <p:cNvSpPr/>
          <p:nvPr/>
        </p:nvSpPr>
        <p:spPr>
          <a:xfrm>
            <a:off x="1916280" y="7812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alibri"/>
              </a:rPr>
              <a:t>Δράμα 20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2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1 - Ορθογώνιο"/>
          <p:cNvSpPr/>
          <p:nvPr/>
        </p:nvSpPr>
        <p:spPr>
          <a:xfrm>
            <a:off x="476280" y="8287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Ερώτηση: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Πόσοι αιώνες παρεμβάλλονται μεταξύ των ετών 3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00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π.Χ. και 3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00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μ.Χ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77 - Ομάδα"/>
          <p:cNvGrpSpPr/>
          <p:nvPr/>
        </p:nvGrpSpPr>
        <p:grpSpPr>
          <a:xfrm>
            <a:off x="393120" y="585720"/>
            <a:ext cx="6045840" cy="4852440"/>
            <a:chOff x="393120" y="585720"/>
            <a:chExt cx="6045840" cy="4852440"/>
          </a:xfrm>
        </p:grpSpPr>
        <p:sp>
          <p:nvSpPr>
            <p:cNvPr id="427" name="45 - TextBox"/>
            <p:cNvSpPr/>
            <p:nvPr/>
          </p:nvSpPr>
          <p:spPr>
            <a:xfrm rot="21060000">
              <a:off x="404280" y="2756880"/>
              <a:ext cx="844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3ος π.Χ. α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3 - Τόξο"/>
            <p:cNvSpPr/>
            <p:nvPr/>
          </p:nvSpPr>
          <p:spPr>
            <a:xfrm rot="5400000">
              <a:off x="1501200" y="585360"/>
              <a:ext cx="3791160" cy="3791160"/>
            </a:xfrm>
            <a:custGeom>
              <a:avLst/>
              <a:gdLst/>
              <a:ahLst/>
              <a:rect l="l" t="t" r="r" b="b"/>
              <a:pathLst>
                <a:path stroke="0" w="3790793" h="3791394">
                  <a:moveTo>
                    <a:pt x="1895396" y="0"/>
                  </a:moveTo>
                  <a:cubicBezTo>
                    <a:pt x="2577406" y="0"/>
                    <a:pt x="3206832" y="366467"/>
                    <a:pt x="3543600" y="959625"/>
                  </a:cubicBezTo>
                  <a:cubicBezTo>
                    <a:pt x="3880299" y="1552661"/>
                    <a:pt x="3872556" y="2280877"/>
                    <a:pt x="3523322" y="2866617"/>
                  </a:cubicBezTo>
                  <a:cubicBezTo>
                    <a:pt x="3174015" y="3452480"/>
                    <a:pt x="2536934" y="3805475"/>
                    <a:pt x="1855075" y="3790965"/>
                  </a:cubicBezTo>
                  <a:lnTo>
                    <a:pt x="1895397" y="1895697"/>
                  </a:lnTo>
                  <a:cubicBezTo>
                    <a:pt x="1895397" y="1263798"/>
                    <a:pt x="1895396" y="631899"/>
                    <a:pt x="1895396" y="0"/>
                  </a:cubicBezTo>
                  <a:close/>
                </a:path>
                <a:path fill="none" w="3790793" h="3791394">
                  <a:moveTo>
                    <a:pt x="1895396" y="0"/>
                  </a:moveTo>
                  <a:cubicBezTo>
                    <a:pt x="2577406" y="0"/>
                    <a:pt x="3206832" y="366467"/>
                    <a:pt x="3543600" y="959625"/>
                  </a:cubicBezTo>
                  <a:cubicBezTo>
                    <a:pt x="3880299" y="1552661"/>
                    <a:pt x="3872556" y="2280877"/>
                    <a:pt x="3523322" y="2866617"/>
                  </a:cubicBezTo>
                  <a:cubicBezTo>
                    <a:pt x="3174015" y="3452480"/>
                    <a:pt x="2536934" y="3805475"/>
                    <a:pt x="1855075" y="379096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8 - Έλλειψη"/>
            <p:cNvSpPr/>
            <p:nvPr/>
          </p:nvSpPr>
          <p:spPr>
            <a:xfrm>
              <a:off x="4316400" y="3984480"/>
              <a:ext cx="203040" cy="191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13 - Έλλειψη"/>
            <p:cNvSpPr/>
            <p:nvPr/>
          </p:nvSpPr>
          <p:spPr>
            <a:xfrm>
              <a:off x="2214360" y="3941640"/>
              <a:ext cx="201600" cy="191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14 - Έλλειψη"/>
            <p:cNvSpPr/>
            <p:nvPr/>
          </p:nvSpPr>
          <p:spPr>
            <a:xfrm>
              <a:off x="1401480" y="2201760"/>
              <a:ext cx="201600" cy="191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19 - Έλλειψη"/>
            <p:cNvSpPr/>
            <p:nvPr/>
          </p:nvSpPr>
          <p:spPr>
            <a:xfrm>
              <a:off x="1558800" y="3135240"/>
              <a:ext cx="203040" cy="193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20 - Έλλειψη"/>
            <p:cNvSpPr/>
            <p:nvPr/>
          </p:nvSpPr>
          <p:spPr>
            <a:xfrm>
              <a:off x="3181320" y="4270320"/>
              <a:ext cx="203040" cy="193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21 - Έλλειψη"/>
            <p:cNvSpPr/>
            <p:nvPr/>
          </p:nvSpPr>
          <p:spPr>
            <a:xfrm>
              <a:off x="4988160" y="3233520"/>
              <a:ext cx="203040" cy="191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22 - Έλλειψη"/>
            <p:cNvSpPr/>
            <p:nvPr/>
          </p:nvSpPr>
          <p:spPr>
            <a:xfrm>
              <a:off x="5191200" y="2263680"/>
              <a:ext cx="201600" cy="193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26 - Ευθεία γραμμή σύνδεσης"/>
            <p:cNvSpPr/>
            <p:nvPr/>
          </p:nvSpPr>
          <p:spPr>
            <a:xfrm>
              <a:off x="1500120" y="1800000"/>
              <a:ext cx="0" cy="642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27 - Ευθεία γραμμή σύνδεσης"/>
            <p:cNvSpPr/>
            <p:nvPr/>
          </p:nvSpPr>
          <p:spPr>
            <a:xfrm>
              <a:off x="5291280" y="1846080"/>
              <a:ext cx="0" cy="641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28 - TextBox"/>
            <p:cNvSpPr/>
            <p:nvPr/>
          </p:nvSpPr>
          <p:spPr>
            <a:xfrm>
              <a:off x="3141720" y="3887280"/>
              <a:ext cx="271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29 - TextBox"/>
            <p:cNvSpPr/>
            <p:nvPr/>
          </p:nvSpPr>
          <p:spPr>
            <a:xfrm rot="18360000">
              <a:off x="2319840" y="3621240"/>
              <a:ext cx="38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31 - TextBox"/>
            <p:cNvSpPr/>
            <p:nvPr/>
          </p:nvSpPr>
          <p:spPr>
            <a:xfrm rot="20160000">
              <a:off x="1785600" y="2942640"/>
              <a:ext cx="40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33 - TextBox"/>
            <p:cNvSpPr/>
            <p:nvPr/>
          </p:nvSpPr>
          <p:spPr>
            <a:xfrm>
              <a:off x="1695240" y="2161080"/>
              <a:ext cx="40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34 - TextBox"/>
            <p:cNvSpPr/>
            <p:nvPr/>
          </p:nvSpPr>
          <p:spPr>
            <a:xfrm>
              <a:off x="4721400" y="2226240"/>
              <a:ext cx="40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35 - Αριστερό άγκιστρο"/>
            <p:cNvSpPr/>
            <p:nvPr/>
          </p:nvSpPr>
          <p:spPr>
            <a:xfrm rot="21000000">
              <a:off x="1261800" y="2325600"/>
              <a:ext cx="180720" cy="995400"/>
            </a:xfrm>
            <a:custGeom>
              <a:avLst/>
              <a:gdLst>
                <a:gd name="textAreaLeft" fmla="*/ 115560 w 180720"/>
                <a:gd name="textAreaRight" fmla="*/ 181080 w 180720"/>
                <a:gd name="textAreaTop" fmla="*/ 50400 h 995400"/>
                <a:gd name="textAreaBottom" fmla="*/ 94500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753"/>
                    <a:pt x="10800" y="3505"/>
                  </a:cubicBezTo>
                  <a:lnTo>
                    <a:pt x="10800" y="7295"/>
                  </a:lnTo>
                  <a:cubicBezTo>
                    <a:pt x="10800" y="9048"/>
                    <a:pt x="5400" y="10800"/>
                    <a:pt x="0" y="10800"/>
                  </a:cubicBezTo>
                  <a:cubicBezTo>
                    <a:pt x="5400" y="10800"/>
                    <a:pt x="10800" y="12553"/>
                    <a:pt x="10800" y="14305"/>
                  </a:cubicBezTo>
                  <a:lnTo>
                    <a:pt x="10800" y="18095"/>
                  </a:lnTo>
                  <a:cubicBezTo>
                    <a:pt x="10800" y="19848"/>
                    <a:pt x="16200" y="21600"/>
                    <a:pt x="21600" y="21600"/>
                  </a:cubicBezTo>
                </a:path>
              </a:pathLst>
            </a:custGeom>
            <a:noFill/>
            <a:ln cap="rnd"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36 - Αριστερό άγκιστρο"/>
            <p:cNvSpPr/>
            <p:nvPr/>
          </p:nvSpPr>
          <p:spPr>
            <a:xfrm rot="19260000">
              <a:off x="1717200" y="3230640"/>
              <a:ext cx="180720" cy="1114200"/>
            </a:xfrm>
            <a:custGeom>
              <a:avLst/>
              <a:gdLst>
                <a:gd name="textAreaLeft" fmla="*/ 115560 w 180720"/>
                <a:gd name="textAreaRight" fmla="*/ 181080 w 180720"/>
                <a:gd name="textAreaTop" fmla="*/ 50400 h 1114200"/>
                <a:gd name="textAreaBottom" fmla="*/ 1063800 h 11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566"/>
                    <a:pt x="10800" y="3131"/>
                  </a:cubicBezTo>
                  <a:lnTo>
                    <a:pt x="10800" y="7669"/>
                  </a:lnTo>
                  <a:cubicBezTo>
                    <a:pt x="10800" y="9235"/>
                    <a:pt x="5400" y="10800"/>
                    <a:pt x="0" y="10800"/>
                  </a:cubicBezTo>
                  <a:cubicBezTo>
                    <a:pt x="5400" y="10800"/>
                    <a:pt x="10800" y="12366"/>
                    <a:pt x="10800" y="13931"/>
                  </a:cubicBezTo>
                  <a:lnTo>
                    <a:pt x="10800" y="18469"/>
                  </a:lnTo>
                  <a:cubicBezTo>
                    <a:pt x="10800" y="20035"/>
                    <a:pt x="16200" y="21600"/>
                    <a:pt x="21600" y="21600"/>
                  </a:cubicBezTo>
                </a:path>
              </a:pathLst>
            </a:custGeom>
            <a:noFill/>
            <a:ln cap="rnd"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37 - Αριστερό άγκιστρο"/>
            <p:cNvSpPr/>
            <p:nvPr/>
          </p:nvSpPr>
          <p:spPr>
            <a:xfrm rot="17340000">
              <a:off x="2637360" y="3869280"/>
              <a:ext cx="179280" cy="1098360"/>
            </a:xfrm>
            <a:custGeom>
              <a:avLst/>
              <a:gdLst>
                <a:gd name="textAreaLeft" fmla="*/ 114480 w 179280"/>
                <a:gd name="textAreaRight" fmla="*/ 179640 w 179280"/>
                <a:gd name="textAreaTop" fmla="*/ 50040 h 1098360"/>
                <a:gd name="textAreaBottom" fmla="*/ 1048320 h 10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574"/>
                    <a:pt x="10800" y="3147"/>
                  </a:cubicBezTo>
                  <a:lnTo>
                    <a:pt x="10800" y="7653"/>
                  </a:lnTo>
                  <a:cubicBezTo>
                    <a:pt x="10800" y="9227"/>
                    <a:pt x="5400" y="10800"/>
                    <a:pt x="0" y="10800"/>
                  </a:cubicBezTo>
                  <a:cubicBezTo>
                    <a:pt x="5400" y="10800"/>
                    <a:pt x="10800" y="12374"/>
                    <a:pt x="10800" y="13947"/>
                  </a:cubicBezTo>
                  <a:lnTo>
                    <a:pt x="10800" y="18453"/>
                  </a:lnTo>
                  <a:cubicBezTo>
                    <a:pt x="10800" y="20027"/>
                    <a:pt x="16200" y="21600"/>
                    <a:pt x="21600" y="21600"/>
                  </a:cubicBezTo>
                </a:path>
              </a:pathLst>
            </a:custGeom>
            <a:noFill/>
            <a:ln cap="rnd"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46 - TextBox"/>
            <p:cNvSpPr/>
            <p:nvPr/>
          </p:nvSpPr>
          <p:spPr>
            <a:xfrm rot="18960000">
              <a:off x="915480" y="4046040"/>
              <a:ext cx="844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2ος π.Χ. α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47 - TextBox"/>
            <p:cNvSpPr/>
            <p:nvPr/>
          </p:nvSpPr>
          <p:spPr>
            <a:xfrm rot="17400000">
              <a:off x="2100960" y="4833000"/>
              <a:ext cx="86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1ος π.Χ. α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49 - TextBox"/>
            <p:cNvSpPr/>
            <p:nvPr/>
          </p:nvSpPr>
          <p:spPr>
            <a:xfrm flipH="1" rot="2640000">
              <a:off x="4910040" y="4165200"/>
              <a:ext cx="84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2ος π.Χ. α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50 - TextBox"/>
            <p:cNvSpPr/>
            <p:nvPr/>
          </p:nvSpPr>
          <p:spPr>
            <a:xfrm flipH="1" rot="660000">
              <a:off x="5581800" y="2932560"/>
              <a:ext cx="844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3ος π.Χ. α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58 - TextBox"/>
            <p:cNvSpPr/>
            <p:nvPr/>
          </p:nvSpPr>
          <p:spPr>
            <a:xfrm flipH="1" rot="3240000">
              <a:off x="4025880" y="3659760"/>
              <a:ext cx="38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59 - TextBox"/>
            <p:cNvSpPr/>
            <p:nvPr/>
          </p:nvSpPr>
          <p:spPr>
            <a:xfrm flipH="1" rot="1980000">
              <a:off x="4604040" y="2987640"/>
              <a:ext cx="40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63 - Αριστερό άγκιστρο"/>
            <p:cNvSpPr/>
            <p:nvPr/>
          </p:nvSpPr>
          <p:spPr>
            <a:xfrm flipH="1" rot="4560000">
              <a:off x="3803760" y="3843360"/>
              <a:ext cx="180720" cy="1224000"/>
            </a:xfrm>
            <a:custGeom>
              <a:avLst/>
              <a:gdLst>
                <a:gd name="textAreaLeft" fmla="*/ 115560 w 180720"/>
                <a:gd name="textAreaRight" fmla="*/ 181080 w 180720"/>
                <a:gd name="textAreaTop" fmla="*/ 50400 h 1224000"/>
                <a:gd name="textAreaBottom" fmla="*/ 11736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25"/>
                    <a:pt x="10800" y="2850"/>
                  </a:cubicBezTo>
                  <a:lnTo>
                    <a:pt x="10800" y="7950"/>
                  </a:lnTo>
                  <a:cubicBezTo>
                    <a:pt x="10800" y="9375"/>
                    <a:pt x="5400" y="10800"/>
                    <a:pt x="0" y="10800"/>
                  </a:cubicBezTo>
                  <a:cubicBezTo>
                    <a:pt x="5400" y="10800"/>
                    <a:pt x="10800" y="12225"/>
                    <a:pt x="10800" y="13650"/>
                  </a:cubicBezTo>
                  <a:lnTo>
                    <a:pt x="10800" y="18750"/>
                  </a:lnTo>
                  <a:cubicBezTo>
                    <a:pt x="10800" y="20175"/>
                    <a:pt x="16200" y="21600"/>
                    <a:pt x="21600" y="21600"/>
                  </a:cubicBezTo>
                </a:path>
              </a:pathLst>
            </a:custGeom>
            <a:noFill/>
            <a:ln cap="rnd"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69 - Αριστερό άγκιστρο"/>
            <p:cNvSpPr/>
            <p:nvPr/>
          </p:nvSpPr>
          <p:spPr>
            <a:xfrm flipH="1" rot="2640000">
              <a:off x="4834800" y="3327120"/>
              <a:ext cx="179280" cy="1114200"/>
            </a:xfrm>
            <a:custGeom>
              <a:avLst/>
              <a:gdLst>
                <a:gd name="textAreaLeft" fmla="*/ 114840 w 179280"/>
                <a:gd name="textAreaRight" fmla="*/ 180000 w 179280"/>
                <a:gd name="textAreaTop" fmla="*/ 50040 h 1114200"/>
                <a:gd name="textAreaBottom" fmla="*/ 1064160 h 11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552"/>
                    <a:pt x="10800" y="3103"/>
                  </a:cubicBezTo>
                  <a:lnTo>
                    <a:pt x="10800" y="7697"/>
                  </a:lnTo>
                  <a:cubicBezTo>
                    <a:pt x="10800" y="9249"/>
                    <a:pt x="5400" y="10800"/>
                    <a:pt x="0" y="10800"/>
                  </a:cubicBezTo>
                  <a:cubicBezTo>
                    <a:pt x="5400" y="10800"/>
                    <a:pt x="10800" y="12352"/>
                    <a:pt x="10800" y="13903"/>
                  </a:cubicBezTo>
                  <a:lnTo>
                    <a:pt x="10800" y="18497"/>
                  </a:lnTo>
                  <a:cubicBezTo>
                    <a:pt x="10800" y="20049"/>
                    <a:pt x="16200" y="21600"/>
                    <a:pt x="21600" y="21600"/>
                  </a:cubicBezTo>
                </a:path>
              </a:pathLst>
            </a:custGeom>
            <a:noFill/>
            <a:ln cap="rnd"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70 - Αριστερό άγκιστρο"/>
            <p:cNvSpPr/>
            <p:nvPr/>
          </p:nvSpPr>
          <p:spPr>
            <a:xfrm flipH="1" rot="660000">
              <a:off x="5349240" y="2407680"/>
              <a:ext cx="180720" cy="1042920"/>
            </a:xfrm>
            <a:custGeom>
              <a:avLst/>
              <a:gdLst>
                <a:gd name="textAreaLeft" fmla="*/ 115560 w 180720"/>
                <a:gd name="textAreaRight" fmla="*/ 181080 w 180720"/>
                <a:gd name="textAreaTop" fmla="*/ 50400 h 1042920"/>
                <a:gd name="textAreaBottom" fmla="*/ 992520 h 10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73"/>
                    <a:pt x="10800" y="3345"/>
                  </a:cubicBezTo>
                  <a:lnTo>
                    <a:pt x="10800" y="7455"/>
                  </a:lnTo>
                  <a:cubicBezTo>
                    <a:pt x="10800" y="9128"/>
                    <a:pt x="5400" y="10800"/>
                    <a:pt x="0" y="10800"/>
                  </a:cubicBezTo>
                  <a:cubicBezTo>
                    <a:pt x="5400" y="10800"/>
                    <a:pt x="10800" y="12473"/>
                    <a:pt x="10800" y="14145"/>
                  </a:cubicBezTo>
                  <a:lnTo>
                    <a:pt x="10800" y="18255"/>
                  </a:lnTo>
                  <a:cubicBezTo>
                    <a:pt x="10800" y="19928"/>
                    <a:pt x="16200" y="21600"/>
                    <a:pt x="21600" y="21600"/>
                  </a:cubicBezTo>
                </a:path>
              </a:pathLst>
            </a:custGeom>
            <a:noFill/>
            <a:ln cap="rnd"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71 - TextBox"/>
            <p:cNvSpPr/>
            <p:nvPr/>
          </p:nvSpPr>
          <p:spPr>
            <a:xfrm flipH="1" rot="4380000">
              <a:off x="3624840" y="4886640"/>
              <a:ext cx="86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1ος π.Χ. α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73 - TextBox"/>
            <p:cNvSpPr/>
            <p:nvPr/>
          </p:nvSpPr>
          <p:spPr>
            <a:xfrm>
              <a:off x="1298160" y="1485720"/>
              <a:ext cx="40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π.Χ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74 - TextBox"/>
            <p:cNvSpPr/>
            <p:nvPr/>
          </p:nvSpPr>
          <p:spPr>
            <a:xfrm>
              <a:off x="5072400" y="1489680"/>
              <a:ext cx="40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μ.Χ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79 - Ορθογώνιο"/>
          <p:cNvSpPr/>
          <p:nvPr/>
        </p:nvSpPr>
        <p:spPr>
          <a:xfrm>
            <a:off x="442800" y="5356080"/>
            <a:ext cx="59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Απάντηση: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Μεταξύ του έτους 300 π.Χ. και του χρονικού σημείου 0  παρεμβάλλονται 300 χρόνια ή 3 αιώνες (εκατονταετίες), δηλαδή οι αιώνες 3ος, 2ος και 1ος π.Χ.. Μεταξύ του έτους 0 και του έτους 300 μ.Χ. παρεμβάλλονται άλλα 300 χρόνια, δηλαδή άλλοι 3 αιώνες, ο 1ος, 2ος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και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3ος μ.Χ. Άρα οι αιώνες που παρεμβάλλονται μεταξύ των ετών 300 π.Χ και 300 μ.Χ. είναι 3 αιώνες π.Χ. και 3 αιώνες μ.Χ., σύνολο 6 αιώνε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c000"/>
                </a:solidFill>
                <a:latin typeface="Calibri"/>
                <a:ea typeface="Times New Roman"/>
              </a:rPr>
              <a:t>Κανόνας: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Αν έχουμε να βρούμε τη χρονική απόσταση ανάμεσα σε δύο χρονολογίες, από τις οποίες η μία είναι π.Χ. και η άλλη μ.Χ., τότε κάνουμε </a:t>
            </a:r>
            <a:r>
              <a:rPr b="0" lang="el-GR" sz="1800" spc="-1" strike="noStrike">
                <a:solidFill>
                  <a:srgbClr val="ffc000"/>
                </a:solidFill>
                <a:latin typeface="Calibri"/>
                <a:ea typeface="Times New Roman"/>
              </a:rPr>
              <a:t>πρόσθεση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1 - Ορθογώνιο"/>
          <p:cNvSpPr/>
          <p:nvPr/>
        </p:nvSpPr>
        <p:spPr>
          <a:xfrm>
            <a:off x="476280" y="8287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c000"/>
                </a:solidFill>
                <a:latin typeface="Calibri"/>
                <a:ea typeface="Times New Roman"/>
              </a:rPr>
              <a:t>Ερώτηση: 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σα χρόνια απέχει το έτος 850 π.Χ. από το έτος 250 π.Χ.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2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93 - Ομάδα"/>
          <p:cNvGrpSpPr/>
          <p:nvPr/>
        </p:nvGrpSpPr>
        <p:grpSpPr>
          <a:xfrm>
            <a:off x="706320" y="1960560"/>
            <a:ext cx="1524240" cy="6480000"/>
            <a:chOff x="706320" y="1960560"/>
            <a:chExt cx="1524240" cy="6480000"/>
          </a:xfrm>
        </p:grpSpPr>
        <p:sp>
          <p:nvSpPr>
            <p:cNvPr id="462" name="4 - Ευθεία γραμμή σύνδεσης"/>
            <p:cNvSpPr/>
            <p:nvPr/>
          </p:nvSpPr>
          <p:spPr>
            <a:xfrm>
              <a:off x="887040" y="1960560"/>
              <a:ext cx="0" cy="6480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6 - Ευθεία γραμμή σύνδεσης"/>
            <p:cNvSpPr/>
            <p:nvPr/>
          </p:nvSpPr>
          <p:spPr>
            <a:xfrm>
              <a:off x="715680" y="2998800"/>
              <a:ext cx="358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7 - Ευθεία γραμμή σύνδεσης"/>
            <p:cNvSpPr/>
            <p:nvPr/>
          </p:nvSpPr>
          <p:spPr>
            <a:xfrm>
              <a:off x="711000" y="3746520"/>
              <a:ext cx="358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8 - Ευθεία γραμμή σύνδεσης"/>
            <p:cNvSpPr/>
            <p:nvPr/>
          </p:nvSpPr>
          <p:spPr>
            <a:xfrm>
              <a:off x="706320" y="449244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9 - Ευθεία γραμμή σύνδεσης"/>
            <p:cNvSpPr/>
            <p:nvPr/>
          </p:nvSpPr>
          <p:spPr>
            <a:xfrm>
              <a:off x="706320" y="224928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10 - Ευθεία γραμμή σύνδεσης"/>
            <p:cNvSpPr/>
            <p:nvPr/>
          </p:nvSpPr>
          <p:spPr>
            <a:xfrm>
              <a:off x="706320" y="52401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11 - Ευθεία γραμμή σύνδεσης"/>
            <p:cNvSpPr/>
            <p:nvPr/>
          </p:nvSpPr>
          <p:spPr>
            <a:xfrm>
              <a:off x="707760" y="82170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14 - Ευθεία γραμμή σύνδεσης"/>
            <p:cNvSpPr/>
            <p:nvPr/>
          </p:nvSpPr>
          <p:spPr>
            <a:xfrm>
              <a:off x="715680" y="598464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15 - Ευθεία γραμμή σύνδεσης"/>
            <p:cNvSpPr/>
            <p:nvPr/>
          </p:nvSpPr>
          <p:spPr>
            <a:xfrm>
              <a:off x="706320" y="74754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16 - Ευθεία γραμμή σύνδεσης"/>
            <p:cNvSpPr/>
            <p:nvPr/>
          </p:nvSpPr>
          <p:spPr>
            <a:xfrm>
              <a:off x="706320" y="672948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22 - TextBox"/>
            <p:cNvSpPr/>
            <p:nvPr/>
          </p:nvSpPr>
          <p:spPr>
            <a:xfrm>
              <a:off x="1108080" y="211428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9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23 - TextBox"/>
            <p:cNvSpPr/>
            <p:nvPr/>
          </p:nvSpPr>
          <p:spPr>
            <a:xfrm>
              <a:off x="1108080" y="287064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24 - TextBox"/>
            <p:cNvSpPr/>
            <p:nvPr/>
          </p:nvSpPr>
          <p:spPr>
            <a:xfrm>
              <a:off x="1108080" y="360972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7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25 - TextBox"/>
            <p:cNvSpPr/>
            <p:nvPr/>
          </p:nvSpPr>
          <p:spPr>
            <a:xfrm>
              <a:off x="1108080" y="435672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6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26 - TextBox"/>
            <p:cNvSpPr/>
            <p:nvPr/>
          </p:nvSpPr>
          <p:spPr>
            <a:xfrm>
              <a:off x="1108080" y="510444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27 - TextBox"/>
            <p:cNvSpPr/>
            <p:nvPr/>
          </p:nvSpPr>
          <p:spPr>
            <a:xfrm>
              <a:off x="1108080" y="584892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28 - TextBox"/>
            <p:cNvSpPr/>
            <p:nvPr/>
          </p:nvSpPr>
          <p:spPr>
            <a:xfrm>
              <a:off x="1108080" y="659592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29 - TextBox"/>
            <p:cNvSpPr/>
            <p:nvPr/>
          </p:nvSpPr>
          <p:spPr>
            <a:xfrm>
              <a:off x="1108080" y="733824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30 - TextBox"/>
            <p:cNvSpPr/>
            <p:nvPr/>
          </p:nvSpPr>
          <p:spPr>
            <a:xfrm>
              <a:off x="1108080" y="807948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31 - Ευθεία γραμμή σύνδεσης"/>
            <p:cNvSpPr/>
            <p:nvPr/>
          </p:nvSpPr>
          <p:spPr>
            <a:xfrm>
              <a:off x="795240" y="2636640"/>
              <a:ext cx="1807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34 - Ευθεία γραμμή σύνδεσης"/>
            <p:cNvSpPr/>
            <p:nvPr/>
          </p:nvSpPr>
          <p:spPr>
            <a:xfrm>
              <a:off x="801360" y="3386160"/>
              <a:ext cx="18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35 - Ευθεία γραμμή σύνδεσης"/>
            <p:cNvSpPr/>
            <p:nvPr/>
          </p:nvSpPr>
          <p:spPr>
            <a:xfrm>
              <a:off x="795240" y="4140000"/>
              <a:ext cx="18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36 - Ευθεία γραμμή σύνδεσης"/>
            <p:cNvSpPr/>
            <p:nvPr/>
          </p:nvSpPr>
          <p:spPr>
            <a:xfrm>
              <a:off x="798120" y="4879800"/>
              <a:ext cx="179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37 - Ευθεία γραμμή σύνδεσης"/>
            <p:cNvSpPr/>
            <p:nvPr/>
          </p:nvSpPr>
          <p:spPr>
            <a:xfrm>
              <a:off x="798120" y="5626080"/>
              <a:ext cx="179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38 - Ευθεία γραμμή σύνδεσης"/>
            <p:cNvSpPr/>
            <p:nvPr/>
          </p:nvSpPr>
          <p:spPr>
            <a:xfrm>
              <a:off x="799920" y="6372000"/>
              <a:ext cx="18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39 - Ευθεία γραμμή σύνδεσης"/>
            <p:cNvSpPr/>
            <p:nvPr/>
          </p:nvSpPr>
          <p:spPr>
            <a:xfrm>
              <a:off x="801360" y="7115040"/>
              <a:ext cx="1807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40 - Ευθεία γραμμή σύνδεσης"/>
            <p:cNvSpPr/>
            <p:nvPr/>
          </p:nvSpPr>
          <p:spPr>
            <a:xfrm>
              <a:off x="796680" y="7858080"/>
              <a:ext cx="18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41 - TextBox"/>
            <p:cNvSpPr/>
            <p:nvPr/>
          </p:nvSpPr>
          <p:spPr>
            <a:xfrm>
              <a:off x="1145880" y="253224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00"/>
                  </a:solidFill>
                  <a:latin typeface="Calibri"/>
                </a:rPr>
                <a:t>8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42 - TextBox"/>
            <p:cNvSpPr/>
            <p:nvPr/>
          </p:nvSpPr>
          <p:spPr>
            <a:xfrm>
              <a:off x="1143000" y="328068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7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43 - TextBox"/>
            <p:cNvSpPr/>
            <p:nvPr/>
          </p:nvSpPr>
          <p:spPr>
            <a:xfrm>
              <a:off x="1141200" y="4031640"/>
              <a:ext cx="2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6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44 - TextBox"/>
            <p:cNvSpPr/>
            <p:nvPr/>
          </p:nvSpPr>
          <p:spPr>
            <a:xfrm>
              <a:off x="1144440" y="477288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5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45 - TextBox"/>
            <p:cNvSpPr/>
            <p:nvPr/>
          </p:nvSpPr>
          <p:spPr>
            <a:xfrm>
              <a:off x="1144440" y="551772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4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46 - TextBox"/>
            <p:cNvSpPr/>
            <p:nvPr/>
          </p:nvSpPr>
          <p:spPr>
            <a:xfrm>
              <a:off x="1144440" y="6266880"/>
              <a:ext cx="2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3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47 - TextBox"/>
            <p:cNvSpPr/>
            <p:nvPr/>
          </p:nvSpPr>
          <p:spPr>
            <a:xfrm>
              <a:off x="1144440" y="701136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00"/>
                  </a:solidFill>
                  <a:latin typeface="Calibri"/>
                </a:rPr>
                <a:t>2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48 - TextBox"/>
            <p:cNvSpPr/>
            <p:nvPr/>
          </p:nvSpPr>
          <p:spPr>
            <a:xfrm>
              <a:off x="1141200" y="7752960"/>
              <a:ext cx="2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1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52 - Δεξιό άγκιστρο"/>
            <p:cNvSpPr/>
            <p:nvPr/>
          </p:nvSpPr>
          <p:spPr>
            <a:xfrm>
              <a:off x="1535040" y="2638440"/>
              <a:ext cx="107640" cy="36036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60360"/>
                <a:gd name="textAreaBottom" fmla="*/ 3438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88"/>
                    <a:pt x="10800" y="3175"/>
                  </a:cubicBezTo>
                  <a:lnTo>
                    <a:pt x="10800" y="7625"/>
                  </a:lnTo>
                  <a:cubicBezTo>
                    <a:pt x="10800" y="9213"/>
                    <a:pt x="16200" y="10800"/>
                    <a:pt x="21600" y="10800"/>
                  </a:cubicBezTo>
                  <a:cubicBezTo>
                    <a:pt x="16200" y="10800"/>
                    <a:pt x="10800" y="12388"/>
                    <a:pt x="10800" y="13975"/>
                  </a:cubicBezTo>
                  <a:lnTo>
                    <a:pt x="10800" y="18425"/>
                  </a:lnTo>
                  <a:cubicBezTo>
                    <a:pt x="10800" y="20013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53 - Δεξιό άγκιστρο"/>
            <p:cNvSpPr/>
            <p:nvPr/>
          </p:nvSpPr>
          <p:spPr>
            <a:xfrm>
              <a:off x="1536840" y="3001680"/>
              <a:ext cx="107640" cy="38232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82320"/>
                <a:gd name="textAreaBottom" fmla="*/ 365760 h 38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96"/>
                    <a:pt x="10800" y="2991"/>
                  </a:cubicBezTo>
                  <a:lnTo>
                    <a:pt x="10800" y="7809"/>
                  </a:lnTo>
                  <a:cubicBezTo>
                    <a:pt x="10800" y="9305"/>
                    <a:pt x="16200" y="10800"/>
                    <a:pt x="21600" y="10800"/>
                  </a:cubicBezTo>
                  <a:cubicBezTo>
                    <a:pt x="16200" y="10800"/>
                    <a:pt x="10800" y="12296"/>
                    <a:pt x="10800" y="13791"/>
                  </a:cubicBezTo>
                  <a:lnTo>
                    <a:pt x="10800" y="18609"/>
                  </a:lnTo>
                  <a:cubicBezTo>
                    <a:pt x="10800" y="20105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54 - Δεξιό άγκιστρο"/>
            <p:cNvSpPr/>
            <p:nvPr/>
          </p:nvSpPr>
          <p:spPr>
            <a:xfrm>
              <a:off x="1536840" y="3386160"/>
              <a:ext cx="107640" cy="36036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60360"/>
                <a:gd name="textAreaBottom" fmla="*/ 3438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88"/>
                    <a:pt x="10800" y="3175"/>
                  </a:cubicBezTo>
                  <a:lnTo>
                    <a:pt x="10800" y="7625"/>
                  </a:lnTo>
                  <a:cubicBezTo>
                    <a:pt x="10800" y="9213"/>
                    <a:pt x="16200" y="10800"/>
                    <a:pt x="21600" y="10800"/>
                  </a:cubicBezTo>
                  <a:cubicBezTo>
                    <a:pt x="16200" y="10800"/>
                    <a:pt x="10800" y="12388"/>
                    <a:pt x="10800" y="13975"/>
                  </a:cubicBezTo>
                  <a:lnTo>
                    <a:pt x="10800" y="18425"/>
                  </a:lnTo>
                  <a:cubicBezTo>
                    <a:pt x="10800" y="20013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58 - Δεξιό άγκιστρο"/>
            <p:cNvSpPr/>
            <p:nvPr/>
          </p:nvSpPr>
          <p:spPr>
            <a:xfrm>
              <a:off x="1535040" y="3747960"/>
              <a:ext cx="107640" cy="38556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85560"/>
                <a:gd name="textAreaBottom" fmla="*/ 369000 h 3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83"/>
                    <a:pt x="10800" y="2966"/>
                  </a:cubicBezTo>
                  <a:lnTo>
                    <a:pt x="10800" y="7834"/>
                  </a:lnTo>
                  <a:cubicBezTo>
                    <a:pt x="10800" y="9317"/>
                    <a:pt x="16200" y="10800"/>
                    <a:pt x="21600" y="10800"/>
                  </a:cubicBezTo>
                  <a:cubicBezTo>
                    <a:pt x="16200" y="10800"/>
                    <a:pt x="10800" y="12283"/>
                    <a:pt x="10800" y="13766"/>
                  </a:cubicBezTo>
                  <a:lnTo>
                    <a:pt x="10800" y="18634"/>
                  </a:lnTo>
                  <a:cubicBezTo>
                    <a:pt x="10800" y="20117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59 - Δεξιό άγκιστρο"/>
            <p:cNvSpPr/>
            <p:nvPr/>
          </p:nvSpPr>
          <p:spPr>
            <a:xfrm>
              <a:off x="1536840" y="4140000"/>
              <a:ext cx="107640" cy="35532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55320"/>
                <a:gd name="textAreaBottom" fmla="*/ 338760 h 3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09"/>
                    <a:pt x="10800" y="3218"/>
                  </a:cubicBezTo>
                  <a:lnTo>
                    <a:pt x="10800" y="7582"/>
                  </a:lnTo>
                  <a:cubicBezTo>
                    <a:pt x="10800" y="9191"/>
                    <a:pt x="16200" y="10800"/>
                    <a:pt x="21600" y="10800"/>
                  </a:cubicBezTo>
                  <a:cubicBezTo>
                    <a:pt x="16200" y="10800"/>
                    <a:pt x="10800" y="12409"/>
                    <a:pt x="10800" y="14018"/>
                  </a:cubicBezTo>
                  <a:lnTo>
                    <a:pt x="10800" y="18382"/>
                  </a:lnTo>
                  <a:cubicBezTo>
                    <a:pt x="10800" y="19991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62 - Δεξιό άγκιστρο"/>
            <p:cNvSpPr/>
            <p:nvPr/>
          </p:nvSpPr>
          <p:spPr>
            <a:xfrm>
              <a:off x="1536840" y="4494240"/>
              <a:ext cx="107640" cy="38556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85560"/>
                <a:gd name="textAreaBottom" fmla="*/ 369000 h 3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83"/>
                    <a:pt x="10800" y="2966"/>
                  </a:cubicBezTo>
                  <a:lnTo>
                    <a:pt x="10800" y="7834"/>
                  </a:lnTo>
                  <a:cubicBezTo>
                    <a:pt x="10800" y="9317"/>
                    <a:pt x="16200" y="10800"/>
                    <a:pt x="21600" y="10800"/>
                  </a:cubicBezTo>
                  <a:cubicBezTo>
                    <a:pt x="16200" y="10800"/>
                    <a:pt x="10800" y="12283"/>
                    <a:pt x="10800" y="13766"/>
                  </a:cubicBezTo>
                  <a:lnTo>
                    <a:pt x="10800" y="18634"/>
                  </a:lnTo>
                  <a:cubicBezTo>
                    <a:pt x="10800" y="20117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63 - Δεξιό άγκιστρο"/>
            <p:cNvSpPr/>
            <p:nvPr/>
          </p:nvSpPr>
          <p:spPr>
            <a:xfrm>
              <a:off x="1538280" y="4881600"/>
              <a:ext cx="107640" cy="35712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57120"/>
                <a:gd name="textAreaBottom" fmla="*/ 34056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02"/>
                    <a:pt x="10800" y="3203"/>
                  </a:cubicBezTo>
                  <a:lnTo>
                    <a:pt x="10800" y="7597"/>
                  </a:lnTo>
                  <a:cubicBezTo>
                    <a:pt x="10800" y="9199"/>
                    <a:pt x="16200" y="10800"/>
                    <a:pt x="21600" y="10800"/>
                  </a:cubicBezTo>
                  <a:cubicBezTo>
                    <a:pt x="16200" y="10800"/>
                    <a:pt x="10800" y="12402"/>
                    <a:pt x="10800" y="14003"/>
                  </a:cubicBezTo>
                  <a:lnTo>
                    <a:pt x="10800" y="18397"/>
                  </a:lnTo>
                  <a:cubicBezTo>
                    <a:pt x="10800" y="19999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66 - Δεξιό άγκιστρο"/>
            <p:cNvSpPr/>
            <p:nvPr/>
          </p:nvSpPr>
          <p:spPr>
            <a:xfrm>
              <a:off x="1533600" y="5238720"/>
              <a:ext cx="107640" cy="38556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85560"/>
                <a:gd name="textAreaBottom" fmla="*/ 369000 h 3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83"/>
                    <a:pt x="10800" y="2966"/>
                  </a:cubicBezTo>
                  <a:lnTo>
                    <a:pt x="10800" y="7834"/>
                  </a:lnTo>
                  <a:cubicBezTo>
                    <a:pt x="10800" y="9317"/>
                    <a:pt x="16200" y="10800"/>
                    <a:pt x="21600" y="10800"/>
                  </a:cubicBezTo>
                  <a:cubicBezTo>
                    <a:pt x="16200" y="10800"/>
                    <a:pt x="10800" y="12283"/>
                    <a:pt x="10800" y="13766"/>
                  </a:cubicBezTo>
                  <a:lnTo>
                    <a:pt x="10800" y="18634"/>
                  </a:lnTo>
                  <a:cubicBezTo>
                    <a:pt x="10800" y="20117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68 - Δεξιό άγκιστρο"/>
            <p:cNvSpPr/>
            <p:nvPr/>
          </p:nvSpPr>
          <p:spPr>
            <a:xfrm>
              <a:off x="1536840" y="5627520"/>
              <a:ext cx="107640" cy="35532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55320"/>
                <a:gd name="textAreaBottom" fmla="*/ 338760 h 3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09"/>
                    <a:pt x="10800" y="3218"/>
                  </a:cubicBezTo>
                  <a:lnTo>
                    <a:pt x="10800" y="7582"/>
                  </a:lnTo>
                  <a:cubicBezTo>
                    <a:pt x="10800" y="9191"/>
                    <a:pt x="16200" y="10800"/>
                    <a:pt x="21600" y="10800"/>
                  </a:cubicBezTo>
                  <a:cubicBezTo>
                    <a:pt x="16200" y="10800"/>
                    <a:pt x="10800" y="12409"/>
                    <a:pt x="10800" y="14018"/>
                  </a:cubicBezTo>
                  <a:lnTo>
                    <a:pt x="10800" y="18382"/>
                  </a:lnTo>
                  <a:cubicBezTo>
                    <a:pt x="10800" y="19991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70 - Δεξιό άγκιστρο"/>
            <p:cNvSpPr/>
            <p:nvPr/>
          </p:nvSpPr>
          <p:spPr>
            <a:xfrm>
              <a:off x="1540080" y="5984640"/>
              <a:ext cx="106200" cy="385560"/>
            </a:xfrm>
            <a:custGeom>
              <a:avLst/>
              <a:gdLst>
                <a:gd name="textAreaLeft" fmla="*/ 0 w 106200"/>
                <a:gd name="textAreaRight" fmla="*/ 38160 w 106200"/>
                <a:gd name="textAreaTop" fmla="*/ 16200 h 385560"/>
                <a:gd name="textAreaBottom" fmla="*/ 369360 h 3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61"/>
                    <a:pt x="10800" y="2922"/>
                  </a:cubicBezTo>
                  <a:lnTo>
                    <a:pt x="10800" y="7878"/>
                  </a:lnTo>
                  <a:cubicBezTo>
                    <a:pt x="10800" y="9339"/>
                    <a:pt x="16200" y="10800"/>
                    <a:pt x="21600" y="10800"/>
                  </a:cubicBezTo>
                  <a:cubicBezTo>
                    <a:pt x="16200" y="10800"/>
                    <a:pt x="10800" y="12261"/>
                    <a:pt x="10800" y="13722"/>
                  </a:cubicBezTo>
                  <a:lnTo>
                    <a:pt x="10800" y="18678"/>
                  </a:lnTo>
                  <a:cubicBezTo>
                    <a:pt x="10800" y="20139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72 - Δεξιό άγκιστρο"/>
            <p:cNvSpPr/>
            <p:nvPr/>
          </p:nvSpPr>
          <p:spPr>
            <a:xfrm>
              <a:off x="1541520" y="6372000"/>
              <a:ext cx="107640" cy="35532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55320"/>
                <a:gd name="textAreaBottom" fmla="*/ 338760 h 3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09"/>
                    <a:pt x="10800" y="3218"/>
                  </a:cubicBezTo>
                  <a:lnTo>
                    <a:pt x="10800" y="7582"/>
                  </a:lnTo>
                  <a:cubicBezTo>
                    <a:pt x="10800" y="9191"/>
                    <a:pt x="16200" y="10800"/>
                    <a:pt x="21600" y="10800"/>
                  </a:cubicBezTo>
                  <a:cubicBezTo>
                    <a:pt x="16200" y="10800"/>
                    <a:pt x="10800" y="12409"/>
                    <a:pt x="10800" y="14018"/>
                  </a:cubicBezTo>
                  <a:lnTo>
                    <a:pt x="10800" y="18382"/>
                  </a:lnTo>
                  <a:cubicBezTo>
                    <a:pt x="10800" y="19991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74 - Δεξιό άγκιστρο"/>
            <p:cNvSpPr/>
            <p:nvPr/>
          </p:nvSpPr>
          <p:spPr>
            <a:xfrm>
              <a:off x="1540080" y="6729480"/>
              <a:ext cx="107640" cy="38556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85560"/>
                <a:gd name="textAreaBottom" fmla="*/ 369000 h 3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83"/>
                    <a:pt x="10800" y="2966"/>
                  </a:cubicBezTo>
                  <a:lnTo>
                    <a:pt x="10800" y="7834"/>
                  </a:lnTo>
                  <a:cubicBezTo>
                    <a:pt x="10800" y="9317"/>
                    <a:pt x="16200" y="10800"/>
                    <a:pt x="21600" y="10800"/>
                  </a:cubicBezTo>
                  <a:cubicBezTo>
                    <a:pt x="16200" y="10800"/>
                    <a:pt x="10800" y="12283"/>
                    <a:pt x="10800" y="13766"/>
                  </a:cubicBezTo>
                  <a:lnTo>
                    <a:pt x="10800" y="18634"/>
                  </a:lnTo>
                  <a:cubicBezTo>
                    <a:pt x="10800" y="20117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75 - TextBox"/>
            <p:cNvSpPr/>
            <p:nvPr/>
          </p:nvSpPr>
          <p:spPr>
            <a:xfrm>
              <a:off x="1693800" y="2729160"/>
              <a:ext cx="51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1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77 - TextBox"/>
            <p:cNvSpPr/>
            <p:nvPr/>
          </p:nvSpPr>
          <p:spPr>
            <a:xfrm>
              <a:off x="1701720" y="310392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2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78 - TextBox"/>
            <p:cNvSpPr/>
            <p:nvPr/>
          </p:nvSpPr>
          <p:spPr>
            <a:xfrm>
              <a:off x="1700280" y="347688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3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79 - TextBox"/>
            <p:cNvSpPr/>
            <p:nvPr/>
          </p:nvSpPr>
          <p:spPr>
            <a:xfrm>
              <a:off x="1700280" y="385164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4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80 - TextBox"/>
            <p:cNvSpPr/>
            <p:nvPr/>
          </p:nvSpPr>
          <p:spPr>
            <a:xfrm>
              <a:off x="1704960" y="422604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81 - TextBox"/>
            <p:cNvSpPr/>
            <p:nvPr/>
          </p:nvSpPr>
          <p:spPr>
            <a:xfrm>
              <a:off x="1704960" y="459828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6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82 - TextBox"/>
            <p:cNvSpPr/>
            <p:nvPr/>
          </p:nvSpPr>
          <p:spPr>
            <a:xfrm>
              <a:off x="1703520" y="496908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7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83 - TextBox"/>
            <p:cNvSpPr/>
            <p:nvPr/>
          </p:nvSpPr>
          <p:spPr>
            <a:xfrm>
              <a:off x="1695600" y="534384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8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86 - TextBox"/>
            <p:cNvSpPr/>
            <p:nvPr/>
          </p:nvSpPr>
          <p:spPr>
            <a:xfrm>
              <a:off x="1689120" y="5712840"/>
              <a:ext cx="53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9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87 - TextBox"/>
            <p:cNvSpPr/>
            <p:nvPr/>
          </p:nvSpPr>
          <p:spPr>
            <a:xfrm>
              <a:off x="1690920" y="6086880"/>
              <a:ext cx="53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10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88 - TextBox"/>
            <p:cNvSpPr/>
            <p:nvPr/>
          </p:nvSpPr>
          <p:spPr>
            <a:xfrm>
              <a:off x="1690920" y="6461280"/>
              <a:ext cx="53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11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89 - TextBox"/>
            <p:cNvSpPr/>
            <p:nvPr/>
          </p:nvSpPr>
          <p:spPr>
            <a:xfrm>
              <a:off x="1690920" y="6831360"/>
              <a:ext cx="53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12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90 - TextBox"/>
          <p:cNvSpPr/>
          <p:nvPr/>
        </p:nvSpPr>
        <p:spPr>
          <a:xfrm>
            <a:off x="2365200" y="2281320"/>
            <a:ext cx="410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Υπάρχουν τρεις τρόποι για να υπολογίσουμε τον αριθμό των ετών που παρεμβάλλονται ανάμεσα στα έτη 850 π.Χ και 250 π.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1) Με…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 πρόσθεση: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προσθέτοντας τις 12 πεντηκονταετίες ανάμεσα στο 850 π.Χ. και το 250 π.Χ.: 50  +50 + 50 + … =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2) Με…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πολλαπλασιασμό: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πολλαπλασιάζοντας τις πεντηκοντατίες επί 12, που είναι ο αριθμός των πεντηκονταετιών που παρεμβάλλονται ανάμεσα στο 850 και το 250: 50 × 12 =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3) Με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αφαίρεση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(ο καλύτερος και ευκολότερος τρόπος). Αφαιρούμε τον μικρότερο αριθμό από τον μεγαλύτερο: 850 - 250 =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1 - Ορθογώνιο"/>
          <p:cNvSpPr/>
          <p:nvPr/>
        </p:nvSpPr>
        <p:spPr>
          <a:xfrm>
            <a:off x="474840" y="82872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Ερώτηση: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τε αρχίζει και πότε τελειώνει η τρίτη δεκαετία του 1ου αιώνα μ.Χ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2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67 - Ομάδα"/>
          <p:cNvGrpSpPr/>
          <p:nvPr/>
        </p:nvGrpSpPr>
        <p:grpSpPr>
          <a:xfrm>
            <a:off x="3117960" y="1889280"/>
            <a:ext cx="3555720" cy="6480000"/>
            <a:chOff x="3117960" y="1889280"/>
            <a:chExt cx="3555720" cy="6480000"/>
          </a:xfrm>
        </p:grpSpPr>
        <p:sp>
          <p:nvSpPr>
            <p:cNvPr id="525" name="3 - Ευθεία γραμμή σύνδεσης"/>
            <p:cNvSpPr/>
            <p:nvPr/>
          </p:nvSpPr>
          <p:spPr>
            <a:xfrm>
              <a:off x="5337360" y="1889280"/>
              <a:ext cx="0" cy="6480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6 - Ευθεία γραμμή σύνδεσης"/>
            <p:cNvSpPr/>
            <p:nvPr/>
          </p:nvSpPr>
          <p:spPr>
            <a:xfrm>
              <a:off x="4977000" y="2373480"/>
              <a:ext cx="718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7 - Ευθεία γραμμή σύνδεσης"/>
            <p:cNvSpPr/>
            <p:nvPr/>
          </p:nvSpPr>
          <p:spPr>
            <a:xfrm>
              <a:off x="5148360" y="2949480"/>
              <a:ext cx="358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10 - Ευθεία γραμμή σύνδεσης"/>
            <p:cNvSpPr/>
            <p:nvPr/>
          </p:nvSpPr>
          <p:spPr>
            <a:xfrm>
              <a:off x="5151600" y="352728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11 - Ευθεία γραμμή σύνδεσης"/>
            <p:cNvSpPr/>
            <p:nvPr/>
          </p:nvSpPr>
          <p:spPr>
            <a:xfrm>
              <a:off x="5151600" y="410364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12 - Ευθεία γραμμή σύνδεσης"/>
            <p:cNvSpPr/>
            <p:nvPr/>
          </p:nvSpPr>
          <p:spPr>
            <a:xfrm>
              <a:off x="5149800" y="4681440"/>
              <a:ext cx="358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13 - Ευθεία γραμμή σύνδεσης"/>
            <p:cNvSpPr/>
            <p:nvPr/>
          </p:nvSpPr>
          <p:spPr>
            <a:xfrm>
              <a:off x="5145120" y="6416640"/>
              <a:ext cx="358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14 - Ευθεία γραμμή σύνδεσης"/>
            <p:cNvSpPr/>
            <p:nvPr/>
          </p:nvSpPr>
          <p:spPr>
            <a:xfrm>
              <a:off x="5146560" y="699480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15 - Ευθεία γραμμή σύνδεσης"/>
            <p:cNvSpPr/>
            <p:nvPr/>
          </p:nvSpPr>
          <p:spPr>
            <a:xfrm>
              <a:off x="5145120" y="7569360"/>
              <a:ext cx="358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16 - Ευθεία γραμμή σύνδεσης"/>
            <p:cNvSpPr/>
            <p:nvPr/>
          </p:nvSpPr>
          <p:spPr>
            <a:xfrm>
              <a:off x="5079960" y="5261040"/>
              <a:ext cx="539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17 - Ευθεία γραμμή σύνδεσης"/>
            <p:cNvSpPr/>
            <p:nvPr/>
          </p:nvSpPr>
          <p:spPr>
            <a:xfrm>
              <a:off x="5146560" y="583884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18 - Ευθεία γραμμή σύνδεσης"/>
            <p:cNvSpPr/>
            <p:nvPr/>
          </p:nvSpPr>
          <p:spPr>
            <a:xfrm>
              <a:off x="4977000" y="8140680"/>
              <a:ext cx="718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21 - Δεξιό άγκιστρο"/>
            <p:cNvSpPr/>
            <p:nvPr/>
          </p:nvSpPr>
          <p:spPr>
            <a:xfrm>
              <a:off x="5807160" y="2371680"/>
              <a:ext cx="360360" cy="575928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136800 h 5759280"/>
                <a:gd name="textAreaBottom" fmla="*/ 5622480 h 57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21"/>
                    <a:pt x="10800" y="1641"/>
                  </a:cubicBezTo>
                  <a:lnTo>
                    <a:pt x="10800" y="9159"/>
                  </a:lnTo>
                  <a:cubicBezTo>
                    <a:pt x="10800" y="9980"/>
                    <a:pt x="16200" y="10800"/>
                    <a:pt x="21600" y="10800"/>
                  </a:cubicBezTo>
                  <a:cubicBezTo>
                    <a:pt x="16200" y="10800"/>
                    <a:pt x="10800" y="11621"/>
                    <a:pt x="10800" y="12441"/>
                  </a:cubicBezTo>
                  <a:lnTo>
                    <a:pt x="10800" y="19959"/>
                  </a:lnTo>
                  <a:cubicBezTo>
                    <a:pt x="10800" y="20780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22 - TextBox"/>
            <p:cNvSpPr/>
            <p:nvPr/>
          </p:nvSpPr>
          <p:spPr>
            <a:xfrm rot="16200000">
              <a:off x="5642640" y="4982400"/>
              <a:ext cx="1512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3ος μ.Χ. αιώνα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23 - TextBox"/>
            <p:cNvSpPr/>
            <p:nvPr/>
          </p:nvSpPr>
          <p:spPr>
            <a:xfrm>
              <a:off x="4557600" y="800424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24 - TextBox"/>
            <p:cNvSpPr/>
            <p:nvPr/>
          </p:nvSpPr>
          <p:spPr>
            <a:xfrm>
              <a:off x="4556160" y="743364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25 - TextBox"/>
            <p:cNvSpPr/>
            <p:nvPr/>
          </p:nvSpPr>
          <p:spPr>
            <a:xfrm>
              <a:off x="4556160" y="687780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26 - TextBox"/>
            <p:cNvSpPr/>
            <p:nvPr/>
          </p:nvSpPr>
          <p:spPr>
            <a:xfrm>
              <a:off x="4557600" y="628164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27 - TextBox"/>
            <p:cNvSpPr/>
            <p:nvPr/>
          </p:nvSpPr>
          <p:spPr>
            <a:xfrm>
              <a:off x="4562640" y="570060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4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28 - TextBox"/>
            <p:cNvSpPr/>
            <p:nvPr/>
          </p:nvSpPr>
          <p:spPr>
            <a:xfrm>
              <a:off x="4562640" y="512352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29 - TextBox"/>
            <p:cNvSpPr/>
            <p:nvPr/>
          </p:nvSpPr>
          <p:spPr>
            <a:xfrm>
              <a:off x="4557600" y="454824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6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30 - TextBox"/>
            <p:cNvSpPr/>
            <p:nvPr/>
          </p:nvSpPr>
          <p:spPr>
            <a:xfrm>
              <a:off x="4556160" y="396648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31 - TextBox"/>
            <p:cNvSpPr/>
            <p:nvPr/>
          </p:nvSpPr>
          <p:spPr>
            <a:xfrm>
              <a:off x="4562640" y="339552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8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32 - TextBox"/>
            <p:cNvSpPr/>
            <p:nvPr/>
          </p:nvSpPr>
          <p:spPr>
            <a:xfrm>
              <a:off x="4556160" y="281448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33 - TextBox"/>
            <p:cNvSpPr/>
            <p:nvPr/>
          </p:nvSpPr>
          <p:spPr>
            <a:xfrm>
              <a:off x="4551480" y="223344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37 - Αριστερό άγκιστρο"/>
            <p:cNvSpPr/>
            <p:nvPr/>
          </p:nvSpPr>
          <p:spPr>
            <a:xfrm>
              <a:off x="4383000" y="7570800"/>
              <a:ext cx="144360" cy="5648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8720 h 564840"/>
                <a:gd name="textAreaBottom" fmla="*/ 546120 h 56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43"/>
                    <a:pt x="10800" y="2286"/>
                  </a:cubicBezTo>
                  <a:lnTo>
                    <a:pt x="10800" y="8514"/>
                  </a:lnTo>
                  <a:cubicBezTo>
                    <a:pt x="10800" y="9657"/>
                    <a:pt x="5400" y="10800"/>
                    <a:pt x="0" y="10800"/>
                  </a:cubicBezTo>
                  <a:cubicBezTo>
                    <a:pt x="5400" y="10800"/>
                    <a:pt x="10800" y="11943"/>
                    <a:pt x="10800" y="13086"/>
                  </a:cubicBezTo>
                  <a:lnTo>
                    <a:pt x="10800" y="19314"/>
                  </a:lnTo>
                  <a:cubicBezTo>
                    <a:pt x="10800" y="20457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38 - Αριστερό άγκιστρο"/>
            <p:cNvSpPr/>
            <p:nvPr/>
          </p:nvSpPr>
          <p:spPr>
            <a:xfrm>
              <a:off x="4386240" y="7002720"/>
              <a:ext cx="144360" cy="5648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8720 h 564840"/>
                <a:gd name="textAreaBottom" fmla="*/ 546120 h 56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43"/>
                    <a:pt x="10800" y="2286"/>
                  </a:cubicBezTo>
                  <a:lnTo>
                    <a:pt x="10800" y="8514"/>
                  </a:lnTo>
                  <a:cubicBezTo>
                    <a:pt x="10800" y="9657"/>
                    <a:pt x="5400" y="10800"/>
                    <a:pt x="0" y="10800"/>
                  </a:cubicBezTo>
                  <a:cubicBezTo>
                    <a:pt x="5400" y="10800"/>
                    <a:pt x="10800" y="11943"/>
                    <a:pt x="10800" y="13086"/>
                  </a:cubicBezTo>
                  <a:lnTo>
                    <a:pt x="10800" y="19314"/>
                  </a:lnTo>
                  <a:cubicBezTo>
                    <a:pt x="10800" y="20457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39 - Αριστερό άγκιστρο"/>
            <p:cNvSpPr/>
            <p:nvPr/>
          </p:nvSpPr>
          <p:spPr>
            <a:xfrm>
              <a:off x="4386240" y="6418440"/>
              <a:ext cx="144360" cy="5824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8720 h 582480"/>
                <a:gd name="textAreaBottom" fmla="*/ 56376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09"/>
                    <a:pt x="10800" y="2218"/>
                  </a:cubicBezTo>
                  <a:lnTo>
                    <a:pt x="10800" y="8582"/>
                  </a:lnTo>
                  <a:cubicBezTo>
                    <a:pt x="10800" y="9691"/>
                    <a:pt x="5400" y="10800"/>
                    <a:pt x="0" y="10800"/>
                  </a:cubicBezTo>
                  <a:cubicBezTo>
                    <a:pt x="5400" y="10800"/>
                    <a:pt x="10800" y="11909"/>
                    <a:pt x="10800" y="13018"/>
                  </a:cubicBezTo>
                  <a:lnTo>
                    <a:pt x="10800" y="19382"/>
                  </a:lnTo>
                  <a:cubicBezTo>
                    <a:pt x="10800" y="20491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41 - Αριστερό άγκιστρο"/>
            <p:cNvSpPr/>
            <p:nvPr/>
          </p:nvSpPr>
          <p:spPr>
            <a:xfrm>
              <a:off x="4386240" y="5835600"/>
              <a:ext cx="144360" cy="5824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8720 h 582480"/>
                <a:gd name="textAreaBottom" fmla="*/ 56376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09"/>
                    <a:pt x="10800" y="2218"/>
                  </a:cubicBezTo>
                  <a:lnTo>
                    <a:pt x="10800" y="8582"/>
                  </a:lnTo>
                  <a:cubicBezTo>
                    <a:pt x="10800" y="9691"/>
                    <a:pt x="5400" y="10800"/>
                    <a:pt x="0" y="10800"/>
                  </a:cubicBezTo>
                  <a:cubicBezTo>
                    <a:pt x="5400" y="10800"/>
                    <a:pt x="10800" y="11909"/>
                    <a:pt x="10800" y="13018"/>
                  </a:cubicBezTo>
                  <a:lnTo>
                    <a:pt x="10800" y="19382"/>
                  </a:lnTo>
                  <a:cubicBezTo>
                    <a:pt x="10800" y="20491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44 - Αριστερό άγκιστρο"/>
            <p:cNvSpPr/>
            <p:nvPr/>
          </p:nvSpPr>
          <p:spPr>
            <a:xfrm>
              <a:off x="4384800" y="5259600"/>
              <a:ext cx="142560" cy="57600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8360 h 576000"/>
                <a:gd name="textAreaBottom" fmla="*/ 5576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09"/>
                    <a:pt x="10800" y="2217"/>
                  </a:cubicBezTo>
                  <a:lnTo>
                    <a:pt x="10800" y="8583"/>
                  </a:lnTo>
                  <a:cubicBezTo>
                    <a:pt x="10800" y="9692"/>
                    <a:pt x="5400" y="10800"/>
                    <a:pt x="0" y="10800"/>
                  </a:cubicBezTo>
                  <a:cubicBezTo>
                    <a:pt x="5400" y="10800"/>
                    <a:pt x="10800" y="11909"/>
                    <a:pt x="10800" y="13017"/>
                  </a:cubicBezTo>
                  <a:lnTo>
                    <a:pt x="10800" y="19383"/>
                  </a:lnTo>
                  <a:cubicBezTo>
                    <a:pt x="10800" y="20492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46 - Αριστερό άγκιστρο"/>
            <p:cNvSpPr/>
            <p:nvPr/>
          </p:nvSpPr>
          <p:spPr>
            <a:xfrm>
              <a:off x="4384800" y="4686480"/>
              <a:ext cx="142560" cy="57456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8360 h 574560"/>
                <a:gd name="textAreaBottom" fmla="*/ 55620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12"/>
                    <a:pt x="10800" y="2224"/>
                  </a:cubicBezTo>
                  <a:lnTo>
                    <a:pt x="10800" y="8576"/>
                  </a:lnTo>
                  <a:cubicBezTo>
                    <a:pt x="10800" y="9688"/>
                    <a:pt x="5400" y="10800"/>
                    <a:pt x="0" y="10800"/>
                  </a:cubicBezTo>
                  <a:cubicBezTo>
                    <a:pt x="5400" y="10800"/>
                    <a:pt x="10800" y="11912"/>
                    <a:pt x="10800" y="13024"/>
                  </a:cubicBezTo>
                  <a:lnTo>
                    <a:pt x="10800" y="19376"/>
                  </a:lnTo>
                  <a:cubicBezTo>
                    <a:pt x="10800" y="20488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48 - Αριστερό άγκιστρο"/>
            <p:cNvSpPr/>
            <p:nvPr/>
          </p:nvSpPr>
          <p:spPr>
            <a:xfrm>
              <a:off x="4389480" y="4108320"/>
              <a:ext cx="142560" cy="57600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8360 h 576000"/>
                <a:gd name="textAreaBottom" fmla="*/ 5576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09"/>
                    <a:pt x="10800" y="2217"/>
                  </a:cubicBezTo>
                  <a:lnTo>
                    <a:pt x="10800" y="8583"/>
                  </a:lnTo>
                  <a:cubicBezTo>
                    <a:pt x="10800" y="9692"/>
                    <a:pt x="5400" y="10800"/>
                    <a:pt x="0" y="10800"/>
                  </a:cubicBezTo>
                  <a:cubicBezTo>
                    <a:pt x="5400" y="10800"/>
                    <a:pt x="10800" y="11909"/>
                    <a:pt x="10800" y="13017"/>
                  </a:cubicBezTo>
                  <a:lnTo>
                    <a:pt x="10800" y="19383"/>
                  </a:lnTo>
                  <a:cubicBezTo>
                    <a:pt x="10800" y="20492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50 - Αριστερό άγκιστρο"/>
            <p:cNvSpPr/>
            <p:nvPr/>
          </p:nvSpPr>
          <p:spPr>
            <a:xfrm>
              <a:off x="4389480" y="3530520"/>
              <a:ext cx="142560" cy="57600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8360 h 576000"/>
                <a:gd name="textAreaBottom" fmla="*/ 5576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09"/>
                    <a:pt x="10800" y="2217"/>
                  </a:cubicBezTo>
                  <a:lnTo>
                    <a:pt x="10800" y="8583"/>
                  </a:lnTo>
                  <a:cubicBezTo>
                    <a:pt x="10800" y="9692"/>
                    <a:pt x="5400" y="10800"/>
                    <a:pt x="0" y="10800"/>
                  </a:cubicBezTo>
                  <a:cubicBezTo>
                    <a:pt x="5400" y="10800"/>
                    <a:pt x="10800" y="11909"/>
                    <a:pt x="10800" y="13017"/>
                  </a:cubicBezTo>
                  <a:lnTo>
                    <a:pt x="10800" y="19383"/>
                  </a:lnTo>
                  <a:cubicBezTo>
                    <a:pt x="10800" y="20492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52 - Αριστερό άγκιστρο"/>
            <p:cNvSpPr/>
            <p:nvPr/>
          </p:nvSpPr>
          <p:spPr>
            <a:xfrm>
              <a:off x="4384800" y="2957400"/>
              <a:ext cx="142560" cy="57456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8360 h 574560"/>
                <a:gd name="textAreaBottom" fmla="*/ 55620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12"/>
                    <a:pt x="10800" y="2224"/>
                  </a:cubicBezTo>
                  <a:lnTo>
                    <a:pt x="10800" y="8576"/>
                  </a:lnTo>
                  <a:cubicBezTo>
                    <a:pt x="10800" y="9688"/>
                    <a:pt x="5400" y="10800"/>
                    <a:pt x="0" y="10800"/>
                  </a:cubicBezTo>
                  <a:cubicBezTo>
                    <a:pt x="5400" y="10800"/>
                    <a:pt x="10800" y="11912"/>
                    <a:pt x="10800" y="13024"/>
                  </a:cubicBezTo>
                  <a:lnTo>
                    <a:pt x="10800" y="19376"/>
                  </a:lnTo>
                  <a:cubicBezTo>
                    <a:pt x="10800" y="20488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54 - Αριστερό άγκιστρο"/>
            <p:cNvSpPr/>
            <p:nvPr/>
          </p:nvSpPr>
          <p:spPr>
            <a:xfrm>
              <a:off x="4384800" y="2379600"/>
              <a:ext cx="142560" cy="57456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8360 h 574560"/>
                <a:gd name="textAreaBottom" fmla="*/ 55620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12"/>
                    <a:pt x="10800" y="2224"/>
                  </a:cubicBezTo>
                  <a:lnTo>
                    <a:pt x="10800" y="8576"/>
                  </a:lnTo>
                  <a:cubicBezTo>
                    <a:pt x="10800" y="9688"/>
                    <a:pt x="5400" y="10800"/>
                    <a:pt x="0" y="10800"/>
                  </a:cubicBezTo>
                  <a:cubicBezTo>
                    <a:pt x="5400" y="10800"/>
                    <a:pt x="10800" y="11912"/>
                    <a:pt x="10800" y="13024"/>
                  </a:cubicBezTo>
                  <a:lnTo>
                    <a:pt x="10800" y="19376"/>
                  </a:lnTo>
                  <a:cubicBezTo>
                    <a:pt x="10800" y="20488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56 - TextBox"/>
            <p:cNvSpPr/>
            <p:nvPr/>
          </p:nvSpPr>
          <p:spPr>
            <a:xfrm>
              <a:off x="3117960" y="7719120"/>
              <a:ext cx="11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1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57 - TextBox"/>
            <p:cNvSpPr/>
            <p:nvPr/>
          </p:nvSpPr>
          <p:spPr>
            <a:xfrm>
              <a:off x="3117960" y="7155720"/>
              <a:ext cx="11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58 - TextBox"/>
            <p:cNvSpPr/>
            <p:nvPr/>
          </p:nvSpPr>
          <p:spPr>
            <a:xfrm>
              <a:off x="3117960" y="6572160"/>
              <a:ext cx="11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3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59 - TextBox"/>
            <p:cNvSpPr/>
            <p:nvPr/>
          </p:nvSpPr>
          <p:spPr>
            <a:xfrm>
              <a:off x="3122640" y="5990400"/>
              <a:ext cx="11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4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60 - TextBox"/>
            <p:cNvSpPr/>
            <p:nvPr/>
          </p:nvSpPr>
          <p:spPr>
            <a:xfrm>
              <a:off x="3120840" y="5409360"/>
              <a:ext cx="11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5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61 - TextBox"/>
            <p:cNvSpPr/>
            <p:nvPr/>
          </p:nvSpPr>
          <p:spPr>
            <a:xfrm>
              <a:off x="3122640" y="4840920"/>
              <a:ext cx="11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6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62 - TextBox"/>
            <p:cNvSpPr/>
            <p:nvPr/>
          </p:nvSpPr>
          <p:spPr>
            <a:xfrm>
              <a:off x="3128760" y="4259880"/>
              <a:ext cx="11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7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63 - TextBox"/>
            <p:cNvSpPr/>
            <p:nvPr/>
          </p:nvSpPr>
          <p:spPr>
            <a:xfrm>
              <a:off x="3117960" y="3681360"/>
              <a:ext cx="1189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8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64 - TextBox"/>
            <p:cNvSpPr/>
            <p:nvPr/>
          </p:nvSpPr>
          <p:spPr>
            <a:xfrm>
              <a:off x="3117960" y="3112200"/>
              <a:ext cx="11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9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65 - TextBox"/>
            <p:cNvSpPr/>
            <p:nvPr/>
          </p:nvSpPr>
          <p:spPr>
            <a:xfrm>
              <a:off x="3308400" y="2391840"/>
              <a:ext cx="1008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τελευταία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68 - TextBox"/>
          <p:cNvSpPr/>
          <p:nvPr/>
        </p:nvSpPr>
        <p:spPr>
          <a:xfrm>
            <a:off x="404640" y="2340000"/>
            <a:ext cx="259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Οι δέκα δεκαετίες του 3ου μ.Χ. αιώνα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1) 201-2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2) 211-2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00"/>
                </a:solidFill>
                <a:latin typeface="Calibri"/>
                <a:ea typeface="Arial"/>
              </a:rPr>
              <a:t>  </a:t>
            </a:r>
            <a:r>
              <a:rPr b="1" lang="el-GR" sz="1800" spc="-1" strike="noStrike">
                <a:solidFill>
                  <a:srgbClr val="ffff00"/>
                </a:solidFill>
                <a:latin typeface="Calibri"/>
                <a:ea typeface="Arial"/>
              </a:rPr>
              <a:t>3) 221-2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4) 231-2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5) 241-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6) 251-2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7) 261-2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8) 271-2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9) 281-2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10) 291-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  <a:ea typeface="Arial"/>
              </a:rPr>
              <a:t>Απάντηση: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Η τρίτη δεκατία του 3ου μ.Χ. αιώνα αρχίζει το έτος 221 και τελειώνει το έτος 23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552600" y="991440"/>
            <a:ext cx="5827680" cy="87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Άσκησ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τε αρχίζει και πότε τελειώνει το δεύτερο μισό του 9ου π.Χ. αιώνα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τε αρχίζει και πότε τελειώνει το πρώτο μισό του 5ου μ.Χ. αιώνα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τε αρχίζει και πότε τελειώνει το δεύτερο τέταρτο του 4ου π.Χ. αιώνα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τε αρχίζει και πότε τελειώνει το τελευταίο τέταρτο του 9ου μ.Χ. αιώνα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οιο έτος αντιστοιχεί στα μέσα του 7ου π.Χ. αιώνα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τε αρχίζει και πότε τελειώνει η τρίτη δεκαετία του 1ου μ.Χ. αιώνα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τε αρχίζει και πότε τελειώνει η έκτη δεκαετία του 8ου μ.Χ αιώνα.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σα χρόνια απέχει το έτος 352 π.Χ. από το έτος 620 μ.Χ.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σοι αιώνες </a:t>
            </a:r>
            <a:r>
              <a:rPr b="0" lang="el-GR" sz="1400" spc="-1" strike="noStrike">
                <a:solidFill>
                  <a:srgbClr val="ffff00"/>
                </a:solidFill>
                <a:latin typeface="Calibri"/>
                <a:ea typeface="Times New Roman"/>
              </a:rPr>
              <a:t>παρεμβάλλονται (προσοχή!)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μεταξύ του 9ου π.Χ. αιώνα και του 3ου μ.Χ. αιώνα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σα χρόνια απέχει το έτος 850 π.Χ. από το έτος 240 π.Χ.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0-1: ____________ έτος του ___________ αιώνα 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1-0: ____________ έτος του ___________ αιώνα 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30-40: ___________ δεκαετία του ________αιώνα 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375-350: ________________________________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675-700: ________________________________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Σε ποιον αιώνα ανήκει το καθένα από τα έτη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(α) 475 π.Χ.: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(ϛ) 1453 μ.Χ.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(β) 240 μ.Χ.: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(ζ) 20 π.Χ.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(γ) 620 μ.Χ.: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(η) 53 μ.Χ.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(δ) 502 π.Χ.: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(θ) 1821 μ.Χ.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(ε) 1450 π.Χ.: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(ι) 1999 μ.Χ.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8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1 - TextBox"/>
          <p:cNvSpPr/>
          <p:nvPr/>
        </p:nvSpPr>
        <p:spPr>
          <a:xfrm>
            <a:off x="457200" y="1563840"/>
            <a:ext cx="5977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f2f2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1 χρόνος = 1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έτο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f2f2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100 χρόνια </a:t>
            </a:r>
            <a:r>
              <a:rPr b="0" lang="el-GR" sz="1800" spc="-1" strike="noStrike">
                <a:solidFill>
                  <a:srgbClr val="f2f2f2"/>
                </a:solidFill>
                <a:latin typeface="Arial"/>
              </a:rPr>
              <a:t>= </a:t>
            </a: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1 εκατονταετία =  </a:t>
            </a:r>
            <a:r>
              <a:rPr b="0" lang="en-US" sz="1800" spc="-1" strike="noStrike">
                <a:solidFill>
                  <a:srgbClr val="f2f2f2"/>
                </a:solidFill>
                <a:latin typeface="Calibri"/>
              </a:rPr>
              <a:t>1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αιώνα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f2f2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1 αιώνας = 10 δεκαετίε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f2f2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1 τέταρτο του αιώνα = 25 έτ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f2f2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1000 χρόνια = 10 αιώνες = 1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χιλιετία</a:t>
            </a: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 (όχι χιλιετηρίδα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f2f2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προ Χριστού </a:t>
            </a: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(ή π.Χ.): πριν από τη γέννηση του Χριστού, ο οποίος φέρεται να γεννήθηκε στο υποθετικό χρονικό σημείο μηδέν (0), δηλαδή ακριβώς τη στιγμή που τέλειωνε το έτος 1 π.Χ. και άρχιζε το 1 μ.Χ. Τέτοιο χρονικό σημείο στην πραγματικότητα δεν υπάρχει και, όπως και η ημερομηνία των γενεθλίων του Χριστού (25 Δεκεμβρίου), είναι μεταγενέστερη επινόησ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μετά Χριστόν </a:t>
            </a: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(ή μ.Χ.): μετά τη γέννηση του Χριστο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f2f2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Το σύστημα χρονολόγησης με βάση τη γέννηση του Χριστού επινοήθηκε στη Ρώμη το 525 μ.Χ. από έναν μοναχό  με καταγωγή από τη Μικρά Σκυθία (Δοβρουτσά) τον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Διονύσιο Εξίγκουο </a:t>
            </a: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(το </a:t>
            </a:r>
            <a:r>
              <a:rPr b="0" lang="en-US" sz="1800" spc="-1" strike="noStrike">
                <a:solidFill>
                  <a:srgbClr val="f2f2f2"/>
                </a:solidFill>
                <a:latin typeface="Calibri"/>
              </a:rPr>
              <a:t>exiguus </a:t>
            </a: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στα λατινικά υποδηλώνει τον «μικρόσωμο» ή τον «ταπεινό» άνθρωπο), που έζησε από το 470 (περίπου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) έως το 544 (περίπου). Αυτός προσδιόρισε τα έτη μετά τη γέννηση του Χριστού με τον όρο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Anno Domini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»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, δηλαδή «στο έτος Κυρίου»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(από τον οποίο προέρχεται και η παραδοσιακή αγγλική βραχυγραφία «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.D.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»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η οποία χρησιμοποιείται στη θέση του ελληνικού μ.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11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12 - TextBox"/>
          <p:cNvSpPr/>
          <p:nvPr/>
        </p:nvSpPr>
        <p:spPr>
          <a:xfrm>
            <a:off x="455760" y="61128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Αυτονόητα αλλά όχι πάντα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6" descr="\\Christos-pc\χρίστος\Οι εικόνες μου\Horseshoe.png"/>
          <p:cNvPicPr/>
          <p:nvPr/>
        </p:nvPicPr>
        <p:blipFill>
          <a:blip r:embed="rId1"/>
          <a:stretch/>
        </p:blipFill>
        <p:spPr>
          <a:xfrm>
            <a:off x="257040" y="1116000"/>
            <a:ext cx="6329520" cy="648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\\Christos-pc\χρίστος\Οι εικόνες μου\Άλογο_01.jpg"/>
          <p:cNvPicPr/>
          <p:nvPr/>
        </p:nvPicPr>
        <p:blipFill>
          <a:blip r:embed="rId2"/>
          <a:stretch/>
        </p:blipFill>
        <p:spPr>
          <a:xfrm>
            <a:off x="2060640" y="2124000"/>
            <a:ext cx="2592360" cy="3490920"/>
          </a:xfrm>
          <a:prstGeom prst="rect">
            <a:avLst/>
          </a:prstGeom>
          <a:ln w="0">
            <a:noFill/>
          </a:ln>
        </p:spPr>
      </p:pic>
      <p:sp>
        <p:nvSpPr>
          <p:cNvPr id="54" name="3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6" descr="\\Christos-pc\χρίστος\Οι εικόνες μου\Horseshoe.png"/>
          <p:cNvPicPr/>
          <p:nvPr/>
        </p:nvPicPr>
        <p:blipFill>
          <a:blip r:embed="rId1"/>
          <a:stretch/>
        </p:blipFill>
        <p:spPr>
          <a:xfrm>
            <a:off x="257040" y="1411200"/>
            <a:ext cx="6329520" cy="6480360"/>
          </a:xfrm>
          <a:prstGeom prst="rect">
            <a:avLst/>
          </a:prstGeom>
          <a:ln w="0">
            <a:noFill/>
          </a:ln>
        </p:spPr>
      </p:pic>
      <p:sp>
        <p:nvSpPr>
          <p:cNvPr id="56" name="1 - TextBox"/>
          <p:cNvSpPr/>
          <p:nvPr/>
        </p:nvSpPr>
        <p:spPr>
          <a:xfrm>
            <a:off x="1460520" y="2801880"/>
            <a:ext cx="396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00"/>
                </a:solidFill>
                <a:latin typeface="Arial"/>
                <a:ea typeface="Arial"/>
              </a:rPr>
              <a:t>Το «πέταλο»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1" lang="el-GR" sz="4800" spc="-1" strike="noStrike">
                <a:solidFill>
                  <a:srgbClr val="ffff00"/>
                </a:solidFill>
                <a:latin typeface="Arial"/>
                <a:ea typeface="Arial"/>
              </a:rPr>
              <a:t>του ιστορικού χρόνο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3 - Ευθεία γραμμή σύνδεσης"/>
          <p:cNvSpPr/>
          <p:nvPr/>
        </p:nvSpPr>
        <p:spPr>
          <a:xfrm>
            <a:off x="1285920" y="430200"/>
            <a:ext cx="0" cy="6120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4 - Τόξο"/>
          <p:cNvSpPr/>
          <p:nvPr/>
        </p:nvSpPr>
        <p:spPr>
          <a:xfrm rot="5400000">
            <a:off x="1285920" y="4470480"/>
            <a:ext cx="4248000" cy="4248000"/>
          </a:xfrm>
          <a:custGeom>
            <a:avLst/>
            <a:gdLst/>
            <a:ahLst/>
            <a:rect l="l" t="t" r="r" b="b"/>
            <a:pathLst>
              <a:path stroke="0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  <a:lnTo>
                  <a:pt x="2124075" y="2124075"/>
                </a:lnTo>
                <a:lnTo>
                  <a:pt x="2124075" y="0"/>
                </a:lnTo>
                <a:close/>
              </a:path>
              <a:path fill="none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5 - Ευθεία γραμμή σύνδεσης"/>
          <p:cNvSpPr/>
          <p:nvPr/>
        </p:nvSpPr>
        <p:spPr>
          <a:xfrm>
            <a:off x="5530680" y="484200"/>
            <a:ext cx="0" cy="61196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7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4 - Ευθεία γραμμή σύνδεσης"/>
          <p:cNvSpPr/>
          <p:nvPr/>
        </p:nvSpPr>
        <p:spPr>
          <a:xfrm>
            <a:off x="1484280" y="684360"/>
            <a:ext cx="0" cy="5759280"/>
          </a:xfrm>
          <a:prstGeom prst="line">
            <a:avLst/>
          </a:prstGeom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18 - Τόξο"/>
          <p:cNvSpPr/>
          <p:nvPr/>
        </p:nvSpPr>
        <p:spPr>
          <a:xfrm rot="5400000">
            <a:off x="1483920" y="4235400"/>
            <a:ext cx="4248360" cy="4248360"/>
          </a:xfrm>
          <a:custGeom>
            <a:avLst/>
            <a:gdLst/>
            <a:ahLst/>
            <a:rect l="l" t="t" r="r" b="b"/>
            <a:pathLst>
              <a:path stroke="0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  <a:lnTo>
                  <a:pt x="2124075" y="2124075"/>
                </a:lnTo>
                <a:lnTo>
                  <a:pt x="2124075" y="0"/>
                </a:lnTo>
                <a:close/>
              </a:path>
              <a:path fill="none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23 - Ευθεία γραμμή σύνδεσης"/>
          <p:cNvSpPr/>
          <p:nvPr/>
        </p:nvSpPr>
        <p:spPr>
          <a:xfrm>
            <a:off x="5732640" y="684360"/>
            <a:ext cx="0" cy="575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22 - Έλλειψη"/>
          <p:cNvSpPr/>
          <p:nvPr/>
        </p:nvSpPr>
        <p:spPr>
          <a:xfrm>
            <a:off x="3463920" y="8325000"/>
            <a:ext cx="287280" cy="2887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28 - TextBox"/>
          <p:cNvSpPr/>
          <p:nvPr/>
        </p:nvSpPr>
        <p:spPr>
          <a:xfrm>
            <a:off x="2754360" y="796464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alibri"/>
              </a:rPr>
              <a:t>Γέννηση  Χριστο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29 - TextBox"/>
          <p:cNvSpPr/>
          <p:nvPr/>
        </p:nvSpPr>
        <p:spPr>
          <a:xfrm>
            <a:off x="898560" y="403200"/>
            <a:ext cx="11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προ Χριστο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30 - TextBox"/>
          <p:cNvSpPr/>
          <p:nvPr/>
        </p:nvSpPr>
        <p:spPr>
          <a:xfrm>
            <a:off x="5118120" y="399960"/>
            <a:ext cx="12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μετά Χριστό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105 - Έλλειψη"/>
          <p:cNvSpPr/>
          <p:nvPr/>
        </p:nvSpPr>
        <p:spPr>
          <a:xfrm>
            <a:off x="3130560" y="835488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108 - Έλλειψη"/>
          <p:cNvSpPr/>
          <p:nvPr/>
        </p:nvSpPr>
        <p:spPr>
          <a:xfrm>
            <a:off x="2778120" y="8236080"/>
            <a:ext cx="21600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109 - Έλλειψη"/>
          <p:cNvSpPr/>
          <p:nvPr/>
        </p:nvSpPr>
        <p:spPr>
          <a:xfrm>
            <a:off x="2448000" y="808344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110 - Έλλειψη"/>
          <p:cNvSpPr/>
          <p:nvPr/>
        </p:nvSpPr>
        <p:spPr>
          <a:xfrm>
            <a:off x="2136600" y="7875720"/>
            <a:ext cx="21600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111 - Έλλειψη"/>
          <p:cNvSpPr/>
          <p:nvPr/>
        </p:nvSpPr>
        <p:spPr>
          <a:xfrm>
            <a:off x="1866960" y="76104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112 - Έλλειψη"/>
          <p:cNvSpPr/>
          <p:nvPr/>
        </p:nvSpPr>
        <p:spPr>
          <a:xfrm>
            <a:off x="1647720" y="730728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113 - Έλλειψη"/>
          <p:cNvSpPr/>
          <p:nvPr/>
        </p:nvSpPr>
        <p:spPr>
          <a:xfrm>
            <a:off x="1500120" y="6972480"/>
            <a:ext cx="21600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114 - Έλλειψη"/>
          <p:cNvSpPr/>
          <p:nvPr/>
        </p:nvSpPr>
        <p:spPr>
          <a:xfrm>
            <a:off x="1390680" y="6624720"/>
            <a:ext cx="21600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115 - Έλλειψη"/>
          <p:cNvSpPr/>
          <p:nvPr/>
        </p:nvSpPr>
        <p:spPr>
          <a:xfrm>
            <a:off x="1374840" y="6264360"/>
            <a:ext cx="21600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116 - Έλλειψη"/>
          <p:cNvSpPr/>
          <p:nvPr/>
        </p:nvSpPr>
        <p:spPr>
          <a:xfrm>
            <a:off x="1379520" y="5907240"/>
            <a:ext cx="21600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18 - Έλλειψη"/>
          <p:cNvSpPr/>
          <p:nvPr/>
        </p:nvSpPr>
        <p:spPr>
          <a:xfrm>
            <a:off x="1376280" y="554508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119 - Έλλειψη"/>
          <p:cNvSpPr/>
          <p:nvPr/>
        </p:nvSpPr>
        <p:spPr>
          <a:xfrm>
            <a:off x="1376280" y="518148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120 - Έλλειψη"/>
          <p:cNvSpPr/>
          <p:nvPr/>
        </p:nvSpPr>
        <p:spPr>
          <a:xfrm>
            <a:off x="1376280" y="482436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121 - Έλλειψη"/>
          <p:cNvSpPr/>
          <p:nvPr/>
        </p:nvSpPr>
        <p:spPr>
          <a:xfrm>
            <a:off x="1376280" y="3745080"/>
            <a:ext cx="21744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122 - Έλλειψη"/>
          <p:cNvSpPr/>
          <p:nvPr/>
        </p:nvSpPr>
        <p:spPr>
          <a:xfrm>
            <a:off x="1376280" y="410364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123 - Έλλειψη"/>
          <p:cNvSpPr/>
          <p:nvPr/>
        </p:nvSpPr>
        <p:spPr>
          <a:xfrm>
            <a:off x="1379520" y="4464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124 - Έλλειψη"/>
          <p:cNvSpPr/>
          <p:nvPr/>
        </p:nvSpPr>
        <p:spPr>
          <a:xfrm>
            <a:off x="1376280" y="3024360"/>
            <a:ext cx="21744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125 - Έλλειψη"/>
          <p:cNvSpPr/>
          <p:nvPr/>
        </p:nvSpPr>
        <p:spPr>
          <a:xfrm>
            <a:off x="1379520" y="338616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126 - Έλλειψη"/>
          <p:cNvSpPr/>
          <p:nvPr/>
        </p:nvSpPr>
        <p:spPr>
          <a:xfrm>
            <a:off x="1376280" y="230652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27 - Έλλειψη"/>
          <p:cNvSpPr/>
          <p:nvPr/>
        </p:nvSpPr>
        <p:spPr>
          <a:xfrm>
            <a:off x="1376280" y="2664000"/>
            <a:ext cx="21744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128 - Έλλειψη"/>
          <p:cNvSpPr/>
          <p:nvPr/>
        </p:nvSpPr>
        <p:spPr>
          <a:xfrm>
            <a:off x="1376280" y="194472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129 - Έλλειψη"/>
          <p:cNvSpPr/>
          <p:nvPr/>
        </p:nvSpPr>
        <p:spPr>
          <a:xfrm>
            <a:off x="1376280" y="158112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130 - Έλλειψη"/>
          <p:cNvSpPr/>
          <p:nvPr/>
        </p:nvSpPr>
        <p:spPr>
          <a:xfrm>
            <a:off x="1376280" y="122400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131 - Έλλειψη"/>
          <p:cNvSpPr/>
          <p:nvPr/>
        </p:nvSpPr>
        <p:spPr>
          <a:xfrm>
            <a:off x="1380960" y="86364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132 - Έλλειψη"/>
          <p:cNvSpPr/>
          <p:nvPr/>
        </p:nvSpPr>
        <p:spPr>
          <a:xfrm>
            <a:off x="3873600" y="8354880"/>
            <a:ext cx="21564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72 - Έλλειψη"/>
          <p:cNvSpPr/>
          <p:nvPr/>
        </p:nvSpPr>
        <p:spPr>
          <a:xfrm>
            <a:off x="4221000" y="8236080"/>
            <a:ext cx="21600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74 - Έλλειψη"/>
          <p:cNvSpPr/>
          <p:nvPr/>
        </p:nvSpPr>
        <p:spPr>
          <a:xfrm>
            <a:off x="4861080" y="7875720"/>
            <a:ext cx="21564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75 - Έλλειψη"/>
          <p:cNvSpPr/>
          <p:nvPr/>
        </p:nvSpPr>
        <p:spPr>
          <a:xfrm>
            <a:off x="4578480" y="8086680"/>
            <a:ext cx="21564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80 - Έλλειψη"/>
          <p:cNvSpPr/>
          <p:nvPr/>
        </p:nvSpPr>
        <p:spPr>
          <a:xfrm>
            <a:off x="5146560" y="761040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81 - Έλλειψη"/>
          <p:cNvSpPr/>
          <p:nvPr/>
        </p:nvSpPr>
        <p:spPr>
          <a:xfrm>
            <a:off x="5354640" y="7310520"/>
            <a:ext cx="21600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82 - Έλλειψη"/>
          <p:cNvSpPr/>
          <p:nvPr/>
        </p:nvSpPr>
        <p:spPr>
          <a:xfrm>
            <a:off x="5514840" y="697536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83 - Έλλειψη"/>
          <p:cNvSpPr/>
          <p:nvPr/>
        </p:nvSpPr>
        <p:spPr>
          <a:xfrm>
            <a:off x="5608800" y="6627960"/>
            <a:ext cx="21564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84 - Έλλειψη"/>
          <p:cNvSpPr/>
          <p:nvPr/>
        </p:nvSpPr>
        <p:spPr>
          <a:xfrm>
            <a:off x="5626080" y="6267600"/>
            <a:ext cx="21600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85 - Έλλειψη"/>
          <p:cNvSpPr/>
          <p:nvPr/>
        </p:nvSpPr>
        <p:spPr>
          <a:xfrm>
            <a:off x="5619600" y="5907240"/>
            <a:ext cx="21600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86 - Έλλειψη"/>
          <p:cNvSpPr/>
          <p:nvPr/>
        </p:nvSpPr>
        <p:spPr>
          <a:xfrm>
            <a:off x="5622840" y="554832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87 - Έλλειψη"/>
          <p:cNvSpPr/>
          <p:nvPr/>
        </p:nvSpPr>
        <p:spPr>
          <a:xfrm>
            <a:off x="5619600" y="518796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88 - Έλλειψη"/>
          <p:cNvSpPr/>
          <p:nvPr/>
        </p:nvSpPr>
        <p:spPr>
          <a:xfrm>
            <a:off x="5624640" y="4827600"/>
            <a:ext cx="21564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89 - Έλλειψη"/>
          <p:cNvSpPr/>
          <p:nvPr/>
        </p:nvSpPr>
        <p:spPr>
          <a:xfrm>
            <a:off x="5629320" y="4465800"/>
            <a:ext cx="21600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00 - Έλλειψη"/>
          <p:cNvSpPr/>
          <p:nvPr/>
        </p:nvSpPr>
        <p:spPr>
          <a:xfrm>
            <a:off x="5624640" y="4105440"/>
            <a:ext cx="21564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101 - Έλλειψη"/>
          <p:cNvSpPr/>
          <p:nvPr/>
        </p:nvSpPr>
        <p:spPr>
          <a:xfrm>
            <a:off x="5619600" y="374796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03 - Έλλειψη"/>
          <p:cNvSpPr/>
          <p:nvPr/>
        </p:nvSpPr>
        <p:spPr>
          <a:xfrm>
            <a:off x="5621400" y="338616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04 - Έλλειψη"/>
          <p:cNvSpPr/>
          <p:nvPr/>
        </p:nvSpPr>
        <p:spPr>
          <a:xfrm>
            <a:off x="5619600" y="3024360"/>
            <a:ext cx="21600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106 - Έλλειψη"/>
          <p:cNvSpPr/>
          <p:nvPr/>
        </p:nvSpPr>
        <p:spPr>
          <a:xfrm>
            <a:off x="5622840" y="266544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17 - Έλλειψη"/>
          <p:cNvSpPr/>
          <p:nvPr/>
        </p:nvSpPr>
        <p:spPr>
          <a:xfrm>
            <a:off x="5626080" y="230652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133 - Έλλειψη"/>
          <p:cNvSpPr/>
          <p:nvPr/>
        </p:nvSpPr>
        <p:spPr>
          <a:xfrm>
            <a:off x="5621400" y="194616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134 - Έλλειψη"/>
          <p:cNvSpPr/>
          <p:nvPr/>
        </p:nvSpPr>
        <p:spPr>
          <a:xfrm>
            <a:off x="5622840" y="158580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135 - Έλλειψη"/>
          <p:cNvSpPr/>
          <p:nvPr/>
        </p:nvSpPr>
        <p:spPr>
          <a:xfrm>
            <a:off x="5624640" y="1227240"/>
            <a:ext cx="21564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136 - Έλλειψη"/>
          <p:cNvSpPr/>
          <p:nvPr/>
        </p:nvSpPr>
        <p:spPr>
          <a:xfrm>
            <a:off x="5627520" y="86832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102 - TextBox"/>
          <p:cNvSpPr/>
          <p:nvPr/>
        </p:nvSpPr>
        <p:spPr>
          <a:xfrm>
            <a:off x="2505240" y="3710160"/>
            <a:ext cx="2160360" cy="6426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Calibri"/>
              </a:rPr>
              <a:t>Τα χρόνι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139 - Ευθύγραμμο βέλος σύνδεσης"/>
          <p:cNvCxnSpPr/>
          <p:nvPr/>
        </p:nvCxnSpPr>
        <p:spPr>
          <a:xfrm>
            <a:off x="1020240" y="2104920"/>
            <a:ext cx="1080" cy="3168000"/>
          </a:xfrm>
          <a:prstGeom prst="straightConnector1">
            <a:avLst/>
          </a:prstGeom>
          <a:ln w="38160">
            <a:solidFill>
              <a:srgbClr val="ffff00"/>
            </a:solidFill>
            <a:prstDash val="dash"/>
            <a:miter/>
            <a:tailEnd len="med" type="arrow" w="med"/>
          </a:ln>
        </p:spPr>
      </p:cxnSp>
      <p:cxnSp>
        <p:nvCxnSpPr>
          <p:cNvPr id="118" name="140 - Ευθύγραμμο βέλος σύνδεσης"/>
          <p:cNvCxnSpPr/>
          <p:nvPr/>
        </p:nvCxnSpPr>
        <p:spPr>
          <a:xfrm>
            <a:off x="6186240" y="2170080"/>
            <a:ext cx="1080" cy="3169440"/>
          </a:xfrm>
          <a:prstGeom prst="straightConnector1">
            <a:avLst/>
          </a:prstGeom>
          <a:ln w="38160">
            <a:solidFill>
              <a:srgbClr val="ffff00"/>
            </a:solidFill>
            <a:prstDash val="dash"/>
            <a:miter/>
            <a:headEnd len="med" type="arrow" w="med"/>
          </a:ln>
        </p:spPr>
      </p:cxnSp>
      <p:sp>
        <p:nvSpPr>
          <p:cNvPr id="119" name="61 - Τόξο"/>
          <p:cNvSpPr/>
          <p:nvPr/>
        </p:nvSpPr>
        <p:spPr>
          <a:xfrm rot="5400000">
            <a:off x="701280" y="3360600"/>
            <a:ext cx="5796000" cy="5148000"/>
          </a:xfrm>
          <a:custGeom>
            <a:avLst/>
            <a:gdLst/>
            <a:ahLst/>
            <a:rect l="l" t="t" r="r" b="b"/>
            <a:pathLst>
              <a:path stroke="0" w="5795962" h="5148263">
                <a:moveTo>
                  <a:pt x="2897981" y="0"/>
                </a:moveTo>
                <a:cubicBezTo>
                  <a:pt x="3884148" y="0"/>
                  <a:pt x="4802630" y="445456"/>
                  <a:pt x="5335835" y="1182337"/>
                </a:cubicBezTo>
                <a:cubicBezTo>
                  <a:pt x="5958042" y="2042218"/>
                  <a:pt x="5948505" y="3147640"/>
                  <a:pt x="5311535" y="3998950"/>
                </a:cubicBezTo>
                <a:cubicBezTo>
                  <a:pt x="4767055" y="4726646"/>
                  <a:pt x="3844172" y="5159328"/>
                  <a:pt x="2860575" y="5148050"/>
                </a:cubicBezTo>
                <a:lnTo>
                  <a:pt x="2897981" y="2574132"/>
                </a:lnTo>
                <a:lnTo>
                  <a:pt x="2897981" y="0"/>
                </a:lnTo>
                <a:close/>
              </a:path>
              <a:path fill="none" w="5795962" h="5148263">
                <a:moveTo>
                  <a:pt x="2897981" y="0"/>
                </a:moveTo>
                <a:cubicBezTo>
                  <a:pt x="3884148" y="0"/>
                  <a:pt x="4802630" y="445456"/>
                  <a:pt x="5335835" y="1182337"/>
                </a:cubicBezTo>
                <a:cubicBezTo>
                  <a:pt x="5958042" y="2042218"/>
                  <a:pt x="5948505" y="3147640"/>
                  <a:pt x="5311535" y="3998950"/>
                </a:cubicBezTo>
                <a:cubicBezTo>
                  <a:pt x="4767055" y="4726646"/>
                  <a:pt x="3844172" y="5159328"/>
                  <a:pt x="2860575" y="5148050"/>
                </a:cubicBezTo>
              </a:path>
            </a:pathLst>
          </a:custGeom>
          <a:noFill/>
          <a:ln w="38160">
            <a:solidFill>
              <a:srgbClr val="ffff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60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77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1 - Ευθεία γραμμή σύνδεσης"/>
          <p:cNvSpPr/>
          <p:nvPr/>
        </p:nvSpPr>
        <p:spPr>
          <a:xfrm>
            <a:off x="5535720" y="549360"/>
            <a:ext cx="0" cy="6119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2 - Ευθεία γραμμή σύνδεσης"/>
          <p:cNvSpPr/>
          <p:nvPr/>
        </p:nvSpPr>
        <p:spPr>
          <a:xfrm>
            <a:off x="1289160" y="563400"/>
            <a:ext cx="0" cy="6120000"/>
          </a:xfrm>
          <a:prstGeom prst="line">
            <a:avLst/>
          </a:prstGeom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3 - Τόξο"/>
          <p:cNvSpPr/>
          <p:nvPr/>
        </p:nvSpPr>
        <p:spPr>
          <a:xfrm rot="5400000">
            <a:off x="1289160" y="4545000"/>
            <a:ext cx="4248000" cy="4248000"/>
          </a:xfrm>
          <a:custGeom>
            <a:avLst/>
            <a:gdLst/>
            <a:ahLst/>
            <a:rect l="l" t="t" r="r" b="b"/>
            <a:pathLst>
              <a:path stroke="0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  <a:lnTo>
                  <a:pt x="2124075" y="2124075"/>
                </a:lnTo>
                <a:lnTo>
                  <a:pt x="2124075" y="0"/>
                </a:lnTo>
                <a:close/>
              </a:path>
              <a:path fill="none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4 - Έλλειψη"/>
          <p:cNvSpPr/>
          <p:nvPr/>
        </p:nvSpPr>
        <p:spPr>
          <a:xfrm>
            <a:off x="3392640" y="8634240"/>
            <a:ext cx="287280" cy="2890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7 - Έλλειψη"/>
          <p:cNvSpPr/>
          <p:nvPr/>
        </p:nvSpPr>
        <p:spPr>
          <a:xfrm>
            <a:off x="2925720" y="861696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8 - Έλλειψη"/>
          <p:cNvSpPr/>
          <p:nvPr/>
        </p:nvSpPr>
        <p:spPr>
          <a:xfrm>
            <a:off x="2382840" y="8424720"/>
            <a:ext cx="289080" cy="287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9 - Έλλειψη"/>
          <p:cNvSpPr/>
          <p:nvPr/>
        </p:nvSpPr>
        <p:spPr>
          <a:xfrm>
            <a:off x="1838160" y="8082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1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11 - Έλλειψη"/>
          <p:cNvSpPr/>
          <p:nvPr/>
        </p:nvSpPr>
        <p:spPr>
          <a:xfrm>
            <a:off x="1179360" y="6053040"/>
            <a:ext cx="2178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3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12 - Έλλειψη"/>
          <p:cNvSpPr/>
          <p:nvPr/>
        </p:nvSpPr>
        <p:spPr>
          <a:xfrm>
            <a:off x="1419120" y="7601040"/>
            <a:ext cx="287280" cy="2887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13 - Έλλειψη"/>
          <p:cNvSpPr/>
          <p:nvPr/>
        </p:nvSpPr>
        <p:spPr>
          <a:xfrm>
            <a:off x="1273320" y="7147080"/>
            <a:ext cx="21564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2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15 - Έλλειψη"/>
          <p:cNvSpPr/>
          <p:nvPr/>
        </p:nvSpPr>
        <p:spPr>
          <a:xfrm>
            <a:off x="1147680" y="6573960"/>
            <a:ext cx="287280" cy="2887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16 - Έλλειψη"/>
          <p:cNvSpPr/>
          <p:nvPr/>
        </p:nvSpPr>
        <p:spPr>
          <a:xfrm>
            <a:off x="1147680" y="5472000"/>
            <a:ext cx="289080" cy="28728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7 - Έλλειψη"/>
          <p:cNvSpPr/>
          <p:nvPr/>
        </p:nvSpPr>
        <p:spPr>
          <a:xfrm>
            <a:off x="1179360" y="4952880"/>
            <a:ext cx="2178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4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8 - Έλλειψη"/>
          <p:cNvSpPr/>
          <p:nvPr/>
        </p:nvSpPr>
        <p:spPr>
          <a:xfrm>
            <a:off x="1138320" y="4305240"/>
            <a:ext cx="288720" cy="28908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9 - Έλλειψη"/>
          <p:cNvSpPr/>
          <p:nvPr/>
        </p:nvSpPr>
        <p:spPr>
          <a:xfrm>
            <a:off x="1181160" y="375912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5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20 - Έλλειψη"/>
          <p:cNvSpPr/>
          <p:nvPr/>
        </p:nvSpPr>
        <p:spPr>
          <a:xfrm>
            <a:off x="1143000" y="3143160"/>
            <a:ext cx="289080" cy="28728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21 - Έλλειψη"/>
          <p:cNvSpPr/>
          <p:nvPr/>
        </p:nvSpPr>
        <p:spPr>
          <a:xfrm>
            <a:off x="1181160" y="259704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6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22 - Έλλειψη"/>
          <p:cNvSpPr/>
          <p:nvPr/>
        </p:nvSpPr>
        <p:spPr>
          <a:xfrm>
            <a:off x="1141560" y="1990800"/>
            <a:ext cx="287280" cy="287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23 - Έλλειψη"/>
          <p:cNvSpPr/>
          <p:nvPr/>
        </p:nvSpPr>
        <p:spPr>
          <a:xfrm>
            <a:off x="1184400" y="145728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7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24 - Έλλειψη"/>
          <p:cNvSpPr/>
          <p:nvPr/>
        </p:nvSpPr>
        <p:spPr>
          <a:xfrm>
            <a:off x="1147680" y="849240"/>
            <a:ext cx="289080" cy="287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25 - Έλλειψη"/>
          <p:cNvSpPr/>
          <p:nvPr/>
        </p:nvSpPr>
        <p:spPr>
          <a:xfrm>
            <a:off x="4297320" y="8431200"/>
            <a:ext cx="287280" cy="28908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00"/>
                </a:solidFill>
                <a:latin typeface="Calibri"/>
              </a:rPr>
              <a:t>1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26 - Έλλειψη"/>
          <p:cNvSpPr/>
          <p:nvPr/>
        </p:nvSpPr>
        <p:spPr>
          <a:xfrm>
            <a:off x="3932280" y="8620200"/>
            <a:ext cx="21600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30 - Έλλειψη"/>
          <p:cNvSpPr/>
          <p:nvPr/>
        </p:nvSpPr>
        <p:spPr>
          <a:xfrm>
            <a:off x="4824360" y="8074080"/>
            <a:ext cx="21600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1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31 - Έλλειψη"/>
          <p:cNvSpPr/>
          <p:nvPr/>
        </p:nvSpPr>
        <p:spPr>
          <a:xfrm>
            <a:off x="5124600" y="7602480"/>
            <a:ext cx="288720" cy="2858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00"/>
                </a:solidFill>
                <a:latin typeface="Calibri"/>
              </a:rPr>
              <a:t>2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32 - Έλλειψη"/>
          <p:cNvSpPr/>
          <p:nvPr/>
        </p:nvSpPr>
        <p:spPr>
          <a:xfrm>
            <a:off x="5351400" y="7148520"/>
            <a:ext cx="21600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2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33 - Έλλειψη"/>
          <p:cNvSpPr/>
          <p:nvPr/>
        </p:nvSpPr>
        <p:spPr>
          <a:xfrm>
            <a:off x="5392800" y="6581880"/>
            <a:ext cx="287280" cy="28728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00"/>
                </a:solidFill>
                <a:latin typeface="Calibri"/>
              </a:rPr>
              <a:t>3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34 - Έλλειψη"/>
          <p:cNvSpPr/>
          <p:nvPr/>
        </p:nvSpPr>
        <p:spPr>
          <a:xfrm>
            <a:off x="5424480" y="6051600"/>
            <a:ext cx="21600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3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35 - Έλλειψη"/>
          <p:cNvSpPr/>
          <p:nvPr/>
        </p:nvSpPr>
        <p:spPr>
          <a:xfrm>
            <a:off x="5386320" y="5477040"/>
            <a:ext cx="287280" cy="28728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00"/>
                </a:solidFill>
                <a:latin typeface="Calibri"/>
              </a:rPr>
              <a:t>4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36 - Έλλειψη"/>
          <p:cNvSpPr/>
          <p:nvPr/>
        </p:nvSpPr>
        <p:spPr>
          <a:xfrm>
            <a:off x="5425920" y="4956120"/>
            <a:ext cx="21600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4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37 - Έλλειψη"/>
          <p:cNvSpPr/>
          <p:nvPr/>
        </p:nvSpPr>
        <p:spPr>
          <a:xfrm>
            <a:off x="5388120" y="4308480"/>
            <a:ext cx="287280" cy="28728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00"/>
                </a:solidFill>
                <a:latin typeface="Calibri"/>
              </a:rPr>
              <a:t>5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38 - Έλλειψη"/>
          <p:cNvSpPr/>
          <p:nvPr/>
        </p:nvSpPr>
        <p:spPr>
          <a:xfrm>
            <a:off x="5425920" y="3767040"/>
            <a:ext cx="21600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5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39 - Έλλειψη"/>
          <p:cNvSpPr/>
          <p:nvPr/>
        </p:nvSpPr>
        <p:spPr>
          <a:xfrm>
            <a:off x="5391000" y="3146400"/>
            <a:ext cx="289080" cy="28908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00"/>
                </a:solidFill>
                <a:latin typeface="Calibri"/>
              </a:rPr>
              <a:t>6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40 - Έλλειψη"/>
          <p:cNvSpPr/>
          <p:nvPr/>
        </p:nvSpPr>
        <p:spPr>
          <a:xfrm>
            <a:off x="5429160" y="2598840"/>
            <a:ext cx="21600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6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41 - Έλλειψη"/>
          <p:cNvSpPr/>
          <p:nvPr/>
        </p:nvSpPr>
        <p:spPr>
          <a:xfrm>
            <a:off x="5384880" y="1990800"/>
            <a:ext cx="287280" cy="28872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00"/>
                </a:solidFill>
                <a:latin typeface="Calibri"/>
              </a:rPr>
              <a:t>7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42 - Έλλειψη"/>
          <p:cNvSpPr/>
          <p:nvPr/>
        </p:nvSpPr>
        <p:spPr>
          <a:xfrm>
            <a:off x="5418000" y="1461960"/>
            <a:ext cx="21600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7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43 - Έλλειψη"/>
          <p:cNvSpPr/>
          <p:nvPr/>
        </p:nvSpPr>
        <p:spPr>
          <a:xfrm>
            <a:off x="5392800" y="849240"/>
            <a:ext cx="287280" cy="28728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00"/>
                </a:solidFill>
                <a:latin typeface="Calibri"/>
              </a:rPr>
              <a:t>8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44 - TextBox"/>
          <p:cNvSpPr/>
          <p:nvPr/>
        </p:nvSpPr>
        <p:spPr>
          <a:xfrm>
            <a:off x="425520" y="237960"/>
            <a:ext cx="170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προ Χριστο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45 - TextBox"/>
          <p:cNvSpPr/>
          <p:nvPr/>
        </p:nvSpPr>
        <p:spPr>
          <a:xfrm>
            <a:off x="4711680" y="272880"/>
            <a:ext cx="163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μετά Χριστό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46 - TextBox"/>
          <p:cNvSpPr/>
          <p:nvPr/>
        </p:nvSpPr>
        <p:spPr>
          <a:xfrm>
            <a:off x="2760840" y="828684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alibri"/>
              </a:rPr>
              <a:t>Γέννηση  Χριστο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48 - TextBox"/>
          <p:cNvSpPr/>
          <p:nvPr/>
        </p:nvSpPr>
        <p:spPr>
          <a:xfrm>
            <a:off x="2421000" y="3494160"/>
            <a:ext cx="2160360" cy="5490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Calibri"/>
              </a:rPr>
              <a:t>Οι αιώνε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49 - Δεξιό άγκιστρο"/>
          <p:cNvSpPr/>
          <p:nvPr/>
        </p:nvSpPr>
        <p:spPr>
          <a:xfrm>
            <a:off x="1490760" y="949320"/>
            <a:ext cx="144360" cy="1225440"/>
          </a:xfrm>
          <a:custGeom>
            <a:avLst/>
            <a:gdLst>
              <a:gd name="textAreaLeft" fmla="*/ 0 w 144360"/>
              <a:gd name="textAreaRight" fmla="*/ 52200 w 144360"/>
              <a:gd name="textAreaTop" fmla="*/ 25920 h 1225440"/>
              <a:gd name="textAreaBottom" fmla="*/ 119952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38"/>
                  <a:pt x="10800" y="1476"/>
                </a:cubicBezTo>
                <a:lnTo>
                  <a:pt x="10800" y="9173"/>
                </a:lnTo>
                <a:cubicBezTo>
                  <a:pt x="10800" y="9911"/>
                  <a:pt x="16200" y="10649"/>
                  <a:pt x="21600" y="10649"/>
                </a:cubicBezTo>
                <a:cubicBezTo>
                  <a:pt x="16200" y="10649"/>
                  <a:pt x="10800" y="11387"/>
                  <a:pt x="10800" y="12125"/>
                </a:cubicBezTo>
                <a:lnTo>
                  <a:pt x="10800" y="20124"/>
                </a:lnTo>
                <a:cubicBezTo>
                  <a:pt x="10800" y="20862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50 - TextBox"/>
          <p:cNvSpPr/>
          <p:nvPr/>
        </p:nvSpPr>
        <p:spPr>
          <a:xfrm>
            <a:off x="1731960" y="1309680"/>
            <a:ext cx="1380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8ος π.Χ. αιώνα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(800-70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51 - Δεξιό άγκιστρο"/>
          <p:cNvSpPr/>
          <p:nvPr/>
        </p:nvSpPr>
        <p:spPr>
          <a:xfrm>
            <a:off x="1490760" y="2173320"/>
            <a:ext cx="144360" cy="122400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1224000"/>
              <a:gd name="textAreaBottom" fmla="*/ 12052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8"/>
                  <a:pt x="10800" y="1056"/>
                </a:cubicBezTo>
                <a:lnTo>
                  <a:pt x="10800" y="9593"/>
                </a:lnTo>
                <a:cubicBezTo>
                  <a:pt x="10800" y="10121"/>
                  <a:pt x="16200" y="10649"/>
                  <a:pt x="21600" y="10649"/>
                </a:cubicBezTo>
                <a:cubicBezTo>
                  <a:pt x="16200" y="10649"/>
                  <a:pt x="10800" y="11177"/>
                  <a:pt x="10800" y="11705"/>
                </a:cubicBezTo>
                <a:lnTo>
                  <a:pt x="10800" y="20544"/>
                </a:lnTo>
                <a:cubicBezTo>
                  <a:pt x="10800" y="21072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52 - TextBox"/>
          <p:cNvSpPr/>
          <p:nvPr/>
        </p:nvSpPr>
        <p:spPr>
          <a:xfrm>
            <a:off x="1720800" y="2533680"/>
            <a:ext cx="1376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7ος π.Χ. αιώνα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(700-60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53 - Δεξιό άγκιστρο"/>
          <p:cNvSpPr/>
          <p:nvPr/>
        </p:nvSpPr>
        <p:spPr>
          <a:xfrm>
            <a:off x="1469880" y="4389480"/>
            <a:ext cx="144720" cy="72072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720720"/>
              <a:gd name="textAreaBottom" fmla="*/ 698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73"/>
                  <a:pt x="10800" y="2145"/>
                </a:cubicBezTo>
                <a:lnTo>
                  <a:pt x="10800" y="8504"/>
                </a:lnTo>
                <a:cubicBezTo>
                  <a:pt x="10800" y="9577"/>
                  <a:pt x="16200" y="10649"/>
                  <a:pt x="21600" y="10649"/>
                </a:cubicBezTo>
                <a:cubicBezTo>
                  <a:pt x="16200" y="10649"/>
                  <a:pt x="10800" y="11722"/>
                  <a:pt x="10800" y="12794"/>
                </a:cubicBezTo>
                <a:lnTo>
                  <a:pt x="10800" y="19455"/>
                </a:lnTo>
                <a:cubicBezTo>
                  <a:pt x="10800" y="20528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54 - TextBox"/>
          <p:cNvSpPr/>
          <p:nvPr/>
        </p:nvSpPr>
        <p:spPr>
          <a:xfrm>
            <a:off x="1670040" y="4378320"/>
            <a:ext cx="1260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1ο μισό του             5ου π.Χ. αιών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(500-45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55 - Δεξιό άγκιστρο"/>
          <p:cNvSpPr/>
          <p:nvPr/>
        </p:nvSpPr>
        <p:spPr>
          <a:xfrm>
            <a:off x="1461960" y="6100920"/>
            <a:ext cx="144720" cy="720720"/>
          </a:xfrm>
          <a:custGeom>
            <a:avLst/>
            <a:gdLst>
              <a:gd name="textAreaLeft" fmla="*/ 0 w 144720"/>
              <a:gd name="textAreaRight" fmla="*/ 52200 w 144720"/>
              <a:gd name="textAreaTop" fmla="*/ 24480 h 720720"/>
              <a:gd name="textAreaBottom" fmla="*/ 696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80"/>
                  <a:pt x="10800" y="2359"/>
                </a:cubicBezTo>
                <a:lnTo>
                  <a:pt x="10800" y="8290"/>
                </a:lnTo>
                <a:cubicBezTo>
                  <a:pt x="10800" y="9470"/>
                  <a:pt x="16200" y="10649"/>
                  <a:pt x="21600" y="10649"/>
                </a:cubicBezTo>
                <a:cubicBezTo>
                  <a:pt x="16200" y="10649"/>
                  <a:pt x="10800" y="11829"/>
                  <a:pt x="10800" y="13008"/>
                </a:cubicBezTo>
                <a:lnTo>
                  <a:pt x="10800" y="19241"/>
                </a:lnTo>
                <a:cubicBezTo>
                  <a:pt x="10800" y="20421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56 - TextBox"/>
          <p:cNvSpPr/>
          <p:nvPr/>
        </p:nvSpPr>
        <p:spPr>
          <a:xfrm>
            <a:off x="1665360" y="6087960"/>
            <a:ext cx="1253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2ο μισό </a:t>
            </a: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             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4ου π.Χ. αιών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(350-30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58 - Ευθεία γραμμή σύνδεσης"/>
          <p:cNvSpPr/>
          <p:nvPr/>
        </p:nvSpPr>
        <p:spPr>
          <a:xfrm flipV="1">
            <a:off x="1605600" y="7881840"/>
            <a:ext cx="298800" cy="240840"/>
          </a:xfrm>
          <a:prstGeom prst="line">
            <a:avLst/>
          </a:prstGeom>
          <a:ln cap="rnd"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62 - Ευθεία γραμμή σύνδεσης"/>
          <p:cNvSpPr/>
          <p:nvPr/>
        </p:nvSpPr>
        <p:spPr>
          <a:xfrm flipV="1">
            <a:off x="2080800" y="8264520"/>
            <a:ext cx="237240" cy="300240"/>
          </a:xfrm>
          <a:prstGeom prst="line">
            <a:avLst/>
          </a:prstGeom>
          <a:ln cap="rnd"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63 - Έλλειψη"/>
          <p:cNvSpPr/>
          <p:nvPr/>
        </p:nvSpPr>
        <p:spPr>
          <a:xfrm>
            <a:off x="1379520" y="807552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17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64 - Έλλειψη"/>
          <p:cNvSpPr/>
          <p:nvPr/>
        </p:nvSpPr>
        <p:spPr>
          <a:xfrm>
            <a:off x="1895400" y="855972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12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65 - Δεξιό άγκιστρο"/>
          <p:cNvSpPr/>
          <p:nvPr/>
        </p:nvSpPr>
        <p:spPr>
          <a:xfrm rot="10800000">
            <a:off x="1204560" y="7740360"/>
            <a:ext cx="142920" cy="431640"/>
          </a:xfrm>
          <a:custGeom>
            <a:avLst/>
            <a:gdLst>
              <a:gd name="textAreaLeft" fmla="*/ 0 w 142920"/>
              <a:gd name="textAreaRight" fmla="*/ 51480 w 142920"/>
              <a:gd name="textAreaTop" fmla="*/ 18720 h 431640"/>
              <a:gd name="textAreaBottom" fmla="*/ 412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16"/>
                  <a:pt x="10800" y="3032"/>
                </a:cubicBezTo>
                <a:lnTo>
                  <a:pt x="10800" y="7768"/>
                </a:lnTo>
                <a:cubicBezTo>
                  <a:pt x="10800" y="9284"/>
                  <a:pt x="16200" y="10800"/>
                  <a:pt x="21600" y="10800"/>
                </a:cubicBezTo>
                <a:cubicBezTo>
                  <a:pt x="16200" y="10800"/>
                  <a:pt x="10800" y="12316"/>
                  <a:pt x="10800" y="13832"/>
                </a:cubicBezTo>
                <a:lnTo>
                  <a:pt x="10800" y="18568"/>
                </a:lnTo>
                <a:cubicBezTo>
                  <a:pt x="10800" y="20084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66 - TextBox"/>
          <p:cNvSpPr/>
          <p:nvPr/>
        </p:nvSpPr>
        <p:spPr>
          <a:xfrm>
            <a:off x="204840" y="7669080"/>
            <a:ext cx="9619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00"/>
                </a:solidFill>
                <a:latin typeface="Calibri"/>
              </a:rPr>
              <a:t>1ο τέταρτο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00"/>
                </a:solidFill>
                <a:latin typeface="Calibri"/>
              </a:rPr>
              <a:t>2ου π.Χ. αιών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00"/>
                </a:solidFill>
                <a:latin typeface="Calibri"/>
              </a:rPr>
              <a:t>(200-17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67 - Δεξιό άγκιστρο"/>
          <p:cNvSpPr/>
          <p:nvPr/>
        </p:nvSpPr>
        <p:spPr>
          <a:xfrm rot="18300000">
            <a:off x="2476440" y="8073720"/>
            <a:ext cx="142920" cy="431640"/>
          </a:xfrm>
          <a:custGeom>
            <a:avLst/>
            <a:gdLst>
              <a:gd name="textAreaLeft" fmla="*/ 0 w 142920"/>
              <a:gd name="textAreaRight" fmla="*/ 51480 w 142920"/>
              <a:gd name="textAreaTop" fmla="*/ 25200 h 431640"/>
              <a:gd name="textAreaBottom" fmla="*/ 4064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20"/>
                  <a:pt x="10800" y="4040"/>
                </a:cubicBezTo>
                <a:lnTo>
                  <a:pt x="10800" y="6760"/>
                </a:lnTo>
                <a:cubicBezTo>
                  <a:pt x="10800" y="8780"/>
                  <a:pt x="16200" y="10800"/>
                  <a:pt x="21600" y="10800"/>
                </a:cubicBezTo>
                <a:cubicBezTo>
                  <a:pt x="16200" y="10800"/>
                  <a:pt x="10800" y="12820"/>
                  <a:pt x="10800" y="14840"/>
                </a:cubicBezTo>
                <a:lnTo>
                  <a:pt x="10800" y="17560"/>
                </a:lnTo>
                <a:cubicBezTo>
                  <a:pt x="10800" y="1958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68 - TextBox"/>
          <p:cNvSpPr/>
          <p:nvPr/>
        </p:nvSpPr>
        <p:spPr>
          <a:xfrm>
            <a:off x="2081160" y="7624800"/>
            <a:ext cx="1224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00"/>
                </a:solidFill>
                <a:latin typeface="Calibri"/>
              </a:rPr>
              <a:t>Τελευταίο  τέταρτο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00"/>
                </a:solidFill>
                <a:latin typeface="Calibri"/>
              </a:rPr>
              <a:t>2ου π.Χ. αιών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00"/>
                </a:solidFill>
                <a:latin typeface="Calibri"/>
              </a:rPr>
              <a:t>(125-10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69 - Δεξιό άγκιστρο"/>
          <p:cNvSpPr/>
          <p:nvPr/>
        </p:nvSpPr>
        <p:spPr>
          <a:xfrm rot="10800000">
            <a:off x="5195520" y="933480"/>
            <a:ext cx="144360" cy="1224000"/>
          </a:xfrm>
          <a:custGeom>
            <a:avLst/>
            <a:gdLst>
              <a:gd name="textAreaLeft" fmla="*/ 0 w 144360"/>
              <a:gd name="textAreaRight" fmla="*/ 52200 w 144360"/>
              <a:gd name="textAreaTop" fmla="*/ 27720 h 1224000"/>
              <a:gd name="textAreaBottom" fmla="*/ 11962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87"/>
                  <a:pt x="10800" y="1573"/>
                </a:cubicBezTo>
                <a:lnTo>
                  <a:pt x="10800" y="9076"/>
                </a:lnTo>
                <a:cubicBezTo>
                  <a:pt x="10800" y="9863"/>
                  <a:pt x="16200" y="10649"/>
                  <a:pt x="21600" y="10649"/>
                </a:cubicBezTo>
                <a:cubicBezTo>
                  <a:pt x="16200" y="10649"/>
                  <a:pt x="10800" y="11436"/>
                  <a:pt x="10800" y="12222"/>
                </a:cubicBezTo>
                <a:lnTo>
                  <a:pt x="10800" y="20027"/>
                </a:lnTo>
                <a:cubicBezTo>
                  <a:pt x="10800" y="20814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70 - TextBox"/>
          <p:cNvSpPr/>
          <p:nvPr/>
        </p:nvSpPr>
        <p:spPr>
          <a:xfrm>
            <a:off x="3672000" y="1309680"/>
            <a:ext cx="140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Calibri"/>
              </a:rPr>
              <a:t>8ος μ.Χ. αιώνα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Calibri"/>
              </a:rPr>
              <a:t>(701-80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73 - Δεξιό άγκιστρο"/>
          <p:cNvSpPr/>
          <p:nvPr/>
        </p:nvSpPr>
        <p:spPr>
          <a:xfrm rot="10800000">
            <a:off x="5190840" y="2154240"/>
            <a:ext cx="144360" cy="1224000"/>
          </a:xfrm>
          <a:custGeom>
            <a:avLst/>
            <a:gdLst>
              <a:gd name="textAreaLeft" fmla="*/ 0 w 144360"/>
              <a:gd name="textAreaRight" fmla="*/ 52200 w 144360"/>
              <a:gd name="textAreaTop" fmla="*/ 33120 h 1224000"/>
              <a:gd name="textAreaBottom" fmla="*/ 11908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40"/>
                  <a:pt x="10800" y="1880"/>
                </a:cubicBezTo>
                <a:lnTo>
                  <a:pt x="10800" y="8769"/>
                </a:lnTo>
                <a:cubicBezTo>
                  <a:pt x="10800" y="9709"/>
                  <a:pt x="16200" y="10649"/>
                  <a:pt x="21600" y="10649"/>
                </a:cubicBezTo>
                <a:cubicBezTo>
                  <a:pt x="16200" y="10649"/>
                  <a:pt x="10800" y="11589"/>
                  <a:pt x="10800" y="12529"/>
                </a:cubicBezTo>
                <a:lnTo>
                  <a:pt x="10800" y="19720"/>
                </a:lnTo>
                <a:cubicBezTo>
                  <a:pt x="10800" y="2066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74 - TextBox"/>
          <p:cNvSpPr/>
          <p:nvPr/>
        </p:nvSpPr>
        <p:spPr>
          <a:xfrm>
            <a:off x="3676680" y="2530440"/>
            <a:ext cx="1396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Calibri"/>
              </a:rPr>
              <a:t>7ος μ.Χ. αιώνα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Calibri"/>
              </a:rPr>
              <a:t>(601-70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75 - Δεξιό άγκιστρο"/>
          <p:cNvSpPr/>
          <p:nvPr/>
        </p:nvSpPr>
        <p:spPr>
          <a:xfrm rot="10800000">
            <a:off x="5197320" y="4370400"/>
            <a:ext cx="144720" cy="719280"/>
          </a:xfrm>
          <a:custGeom>
            <a:avLst/>
            <a:gdLst>
              <a:gd name="textAreaLeft" fmla="*/ 0 w 144720"/>
              <a:gd name="textAreaRight" fmla="*/ 52200 w 144720"/>
              <a:gd name="textAreaTop" fmla="*/ 30960 h 719280"/>
              <a:gd name="textAreaBottom" fmla="*/ 688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87"/>
                  <a:pt x="10800" y="2974"/>
                </a:cubicBezTo>
                <a:lnTo>
                  <a:pt x="10800" y="7675"/>
                </a:lnTo>
                <a:cubicBezTo>
                  <a:pt x="10800" y="9162"/>
                  <a:pt x="16200" y="10649"/>
                  <a:pt x="21600" y="10649"/>
                </a:cubicBezTo>
                <a:cubicBezTo>
                  <a:pt x="16200" y="10649"/>
                  <a:pt x="10800" y="12136"/>
                  <a:pt x="10800" y="13623"/>
                </a:cubicBezTo>
                <a:lnTo>
                  <a:pt x="10800" y="18626"/>
                </a:lnTo>
                <a:cubicBezTo>
                  <a:pt x="10800" y="20113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76 - TextBox"/>
          <p:cNvSpPr/>
          <p:nvPr/>
        </p:nvSpPr>
        <p:spPr>
          <a:xfrm>
            <a:off x="3792600" y="4363920"/>
            <a:ext cx="1346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Calibri"/>
              </a:rPr>
              <a:t>2ο μισό του         5ου μ.Χ. αιών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Calibri"/>
              </a:rPr>
              <a:t>(451-50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78 - TextBox"/>
          <p:cNvSpPr/>
          <p:nvPr/>
        </p:nvSpPr>
        <p:spPr>
          <a:xfrm>
            <a:off x="3887640" y="6094440"/>
            <a:ext cx="12826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Calibri"/>
              </a:rPr>
              <a:t>1ο μισό του         4ου μ.Χ. αιών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Calibri"/>
              </a:rPr>
              <a:t>(451-50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79 - Δεξιό άγκιστρο"/>
          <p:cNvSpPr/>
          <p:nvPr/>
        </p:nvSpPr>
        <p:spPr>
          <a:xfrm rot="10800000">
            <a:off x="5219280" y="609768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30600 h 720720"/>
              <a:gd name="textAreaBottom" fmla="*/ 6901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65"/>
                  <a:pt x="10800" y="2930"/>
                </a:cubicBezTo>
                <a:lnTo>
                  <a:pt x="10800" y="7719"/>
                </a:lnTo>
                <a:cubicBezTo>
                  <a:pt x="10800" y="9184"/>
                  <a:pt x="16200" y="10649"/>
                  <a:pt x="21600" y="10649"/>
                </a:cubicBezTo>
                <a:cubicBezTo>
                  <a:pt x="16200" y="10649"/>
                  <a:pt x="10800" y="12114"/>
                  <a:pt x="10800" y="13579"/>
                </a:cubicBezTo>
                <a:lnTo>
                  <a:pt x="10800" y="18670"/>
                </a:lnTo>
                <a:cubicBezTo>
                  <a:pt x="10800" y="20135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80 - Ευθεία γραμμή σύνδεσης"/>
          <p:cNvSpPr/>
          <p:nvPr/>
        </p:nvSpPr>
        <p:spPr>
          <a:xfrm flipH="1" flipV="1">
            <a:off x="4983120" y="7888320"/>
            <a:ext cx="296280" cy="242280"/>
          </a:xfrm>
          <a:prstGeom prst="line">
            <a:avLst/>
          </a:prstGeom>
          <a:ln cap="rnd"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81 - Ευθεία γραμμή σύνδεσης"/>
          <p:cNvSpPr/>
          <p:nvPr/>
        </p:nvSpPr>
        <p:spPr>
          <a:xfrm flipH="1" flipV="1">
            <a:off x="4629600" y="8265240"/>
            <a:ext cx="223200" cy="310680"/>
          </a:xfrm>
          <a:prstGeom prst="line">
            <a:avLst/>
          </a:prstGeom>
          <a:ln cap="rnd"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82 - Έλλειψη"/>
          <p:cNvSpPr/>
          <p:nvPr/>
        </p:nvSpPr>
        <p:spPr>
          <a:xfrm>
            <a:off x="5272200" y="8080200"/>
            <a:ext cx="215640" cy="2178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17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83 - Έλλειψη"/>
          <p:cNvSpPr/>
          <p:nvPr/>
        </p:nvSpPr>
        <p:spPr>
          <a:xfrm>
            <a:off x="4826160" y="8562960"/>
            <a:ext cx="21564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12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84 - Δεξιό άγκιστρο"/>
          <p:cNvSpPr/>
          <p:nvPr/>
        </p:nvSpPr>
        <p:spPr>
          <a:xfrm rot="13920000">
            <a:off x="4440240" y="7924680"/>
            <a:ext cx="142560" cy="431640"/>
          </a:xfrm>
          <a:custGeom>
            <a:avLst/>
            <a:gdLst>
              <a:gd name="textAreaLeft" fmla="*/ 0 w 142560"/>
              <a:gd name="textAreaRight" fmla="*/ 51480 w 142560"/>
              <a:gd name="textAreaTop" fmla="*/ 33480 h 431640"/>
              <a:gd name="textAreaBottom" fmla="*/ 3981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85 - TextBox"/>
          <p:cNvSpPr/>
          <p:nvPr/>
        </p:nvSpPr>
        <p:spPr>
          <a:xfrm>
            <a:off x="3424320" y="7628040"/>
            <a:ext cx="1008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2f2f2"/>
                </a:solidFill>
                <a:latin typeface="Calibri"/>
              </a:rPr>
              <a:t>1ο τέταρτο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2f2f2"/>
                </a:solidFill>
                <a:latin typeface="Calibri"/>
              </a:rPr>
              <a:t>2ου μ.Χ. αιών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2f2f2"/>
                </a:solidFill>
                <a:latin typeface="Calibri"/>
              </a:rPr>
              <a:t>(101-12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86 - Δεξιό άγκιστρο"/>
          <p:cNvSpPr/>
          <p:nvPr/>
        </p:nvSpPr>
        <p:spPr>
          <a:xfrm rot="21540000">
            <a:off x="5516640" y="7737480"/>
            <a:ext cx="144360" cy="431640"/>
          </a:xfrm>
          <a:custGeom>
            <a:avLst/>
            <a:gdLst>
              <a:gd name="textAreaLeft" fmla="*/ 0 w 144360"/>
              <a:gd name="textAreaRight" fmla="*/ 52200 w 144360"/>
              <a:gd name="textAreaTop" fmla="*/ 28800 h 431640"/>
              <a:gd name="textAreaBottom" fmla="*/ 4028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11"/>
                  <a:pt x="10800" y="4622"/>
                </a:cubicBezTo>
                <a:lnTo>
                  <a:pt x="10800" y="6178"/>
                </a:lnTo>
                <a:cubicBezTo>
                  <a:pt x="10800" y="8489"/>
                  <a:pt x="16200" y="10800"/>
                  <a:pt x="21600" y="10800"/>
                </a:cubicBezTo>
                <a:cubicBezTo>
                  <a:pt x="16200" y="10800"/>
                  <a:pt x="10800" y="13111"/>
                  <a:pt x="10800" y="15422"/>
                </a:cubicBezTo>
                <a:lnTo>
                  <a:pt x="10800" y="16978"/>
                </a:lnTo>
                <a:cubicBezTo>
                  <a:pt x="10800" y="19289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87 - TextBox"/>
          <p:cNvSpPr/>
          <p:nvPr/>
        </p:nvSpPr>
        <p:spPr>
          <a:xfrm>
            <a:off x="5689440" y="7585200"/>
            <a:ext cx="1008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2f2f2"/>
                </a:solidFill>
                <a:latin typeface="Calibri"/>
              </a:rPr>
              <a:t>Τελευταίο τέταρτο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2f2f2"/>
                </a:solidFill>
                <a:latin typeface="Calibri"/>
              </a:rPr>
              <a:t>2ου μ.Χ. αιών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2f2f2"/>
                </a:solidFill>
                <a:latin typeface="Calibri"/>
              </a:rPr>
              <a:t>(176-20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67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1 - Ευθεία γραμμή σύνδεσης"/>
          <p:cNvSpPr/>
          <p:nvPr/>
        </p:nvSpPr>
        <p:spPr>
          <a:xfrm>
            <a:off x="1289160" y="619200"/>
            <a:ext cx="0" cy="6119640"/>
          </a:xfrm>
          <a:prstGeom prst="line">
            <a:avLst/>
          </a:prstGeom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2 - Τόξο"/>
          <p:cNvSpPr/>
          <p:nvPr/>
        </p:nvSpPr>
        <p:spPr>
          <a:xfrm rot="5400000">
            <a:off x="1289160" y="4605480"/>
            <a:ext cx="4248000" cy="4248000"/>
          </a:xfrm>
          <a:custGeom>
            <a:avLst/>
            <a:gdLst/>
            <a:ahLst/>
            <a:rect l="l" t="t" r="r" b="b"/>
            <a:pathLst>
              <a:path stroke="0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  <a:lnTo>
                  <a:pt x="2124075" y="2124075"/>
                </a:lnTo>
                <a:lnTo>
                  <a:pt x="2124075" y="0"/>
                </a:lnTo>
                <a:close/>
              </a:path>
              <a:path fill="none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3 - Ευθεία γραμμή σύνδεσης"/>
          <p:cNvSpPr/>
          <p:nvPr/>
        </p:nvSpPr>
        <p:spPr>
          <a:xfrm>
            <a:off x="5537160" y="609480"/>
            <a:ext cx="0" cy="6120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6 - Έλλειψη"/>
          <p:cNvSpPr/>
          <p:nvPr/>
        </p:nvSpPr>
        <p:spPr>
          <a:xfrm>
            <a:off x="3365640" y="8699400"/>
            <a:ext cx="287280" cy="2890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7 - TextBox"/>
          <p:cNvSpPr/>
          <p:nvPr/>
        </p:nvSpPr>
        <p:spPr>
          <a:xfrm>
            <a:off x="2637000" y="82486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alibri"/>
              </a:rPr>
              <a:t>Γέννηση  Χριστο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13 - TextBox"/>
          <p:cNvSpPr/>
          <p:nvPr/>
        </p:nvSpPr>
        <p:spPr>
          <a:xfrm>
            <a:off x="569880" y="358920"/>
            <a:ext cx="144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προ Χριστο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14 - TextBox"/>
          <p:cNvSpPr/>
          <p:nvPr/>
        </p:nvSpPr>
        <p:spPr>
          <a:xfrm>
            <a:off x="4757760" y="334800"/>
            <a:ext cx="154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μετά Χριστό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15 - Έλλειψη"/>
          <p:cNvSpPr/>
          <p:nvPr/>
        </p:nvSpPr>
        <p:spPr>
          <a:xfrm>
            <a:off x="1768320" y="8086680"/>
            <a:ext cx="432000" cy="432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16 - Έλλειψη"/>
          <p:cNvSpPr/>
          <p:nvPr/>
        </p:nvSpPr>
        <p:spPr>
          <a:xfrm>
            <a:off x="4716360" y="8069400"/>
            <a:ext cx="432000" cy="433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Calibri"/>
              </a:rPr>
              <a:t>1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19 - Έλλειψη"/>
          <p:cNvSpPr/>
          <p:nvPr/>
        </p:nvSpPr>
        <p:spPr>
          <a:xfrm>
            <a:off x="1089000" y="6740640"/>
            <a:ext cx="432000" cy="4334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21 - Έλλειψη"/>
          <p:cNvSpPr/>
          <p:nvPr/>
        </p:nvSpPr>
        <p:spPr>
          <a:xfrm>
            <a:off x="5300640" y="6732720"/>
            <a:ext cx="432000" cy="43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Calibri"/>
              </a:rPr>
              <a:t>2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22 - Έλλειψη"/>
          <p:cNvSpPr/>
          <p:nvPr/>
        </p:nvSpPr>
        <p:spPr>
          <a:xfrm>
            <a:off x="1069920" y="5148360"/>
            <a:ext cx="433440" cy="431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3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23 - Έλλειψη"/>
          <p:cNvSpPr/>
          <p:nvPr/>
        </p:nvSpPr>
        <p:spPr>
          <a:xfrm>
            <a:off x="5322960" y="5148360"/>
            <a:ext cx="433440" cy="43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Calibri"/>
              </a:rPr>
              <a:t>3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24 - Έλλειψη"/>
          <p:cNvSpPr/>
          <p:nvPr/>
        </p:nvSpPr>
        <p:spPr>
          <a:xfrm>
            <a:off x="1074600" y="3343320"/>
            <a:ext cx="432000" cy="431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25 - Έλλειψη"/>
          <p:cNvSpPr/>
          <p:nvPr/>
        </p:nvSpPr>
        <p:spPr>
          <a:xfrm>
            <a:off x="5318280" y="3348000"/>
            <a:ext cx="431640" cy="432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Calibri"/>
              </a:rPr>
              <a:t>4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26 - Έλλειψη"/>
          <p:cNvSpPr/>
          <p:nvPr/>
        </p:nvSpPr>
        <p:spPr>
          <a:xfrm>
            <a:off x="1074600" y="1596960"/>
            <a:ext cx="432000" cy="432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27 - Έλλειψη"/>
          <p:cNvSpPr/>
          <p:nvPr/>
        </p:nvSpPr>
        <p:spPr>
          <a:xfrm>
            <a:off x="5322960" y="1596960"/>
            <a:ext cx="433440" cy="432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Calibri"/>
              </a:rPr>
              <a:t>5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28 - TextBox"/>
          <p:cNvSpPr/>
          <p:nvPr/>
        </p:nvSpPr>
        <p:spPr>
          <a:xfrm>
            <a:off x="2327400" y="3492360"/>
            <a:ext cx="2347920" cy="5490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Calibri"/>
              </a:rPr>
              <a:t>Οι χιλιετίε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29 - Στρογγυλεμένο ορθογώνιο"/>
          <p:cNvSpPr/>
          <p:nvPr/>
        </p:nvSpPr>
        <p:spPr>
          <a:xfrm>
            <a:off x="1312920" y="7539120"/>
            <a:ext cx="358560" cy="215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32 - Στρογγυλεμένο ορθογώνιο"/>
          <p:cNvSpPr/>
          <p:nvPr/>
        </p:nvSpPr>
        <p:spPr>
          <a:xfrm>
            <a:off x="5133960" y="7542360"/>
            <a:ext cx="358920" cy="215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00"/>
                </a:solidFill>
                <a:latin typeface="Calibri"/>
              </a:rPr>
              <a:t>1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33 - Στρογγυλεμένο ορθογώνιο"/>
          <p:cNvSpPr/>
          <p:nvPr/>
        </p:nvSpPr>
        <p:spPr>
          <a:xfrm>
            <a:off x="1104840" y="60674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2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34 - Στρογγυλεμένο ορθογώνιο"/>
          <p:cNvSpPr/>
          <p:nvPr/>
        </p:nvSpPr>
        <p:spPr>
          <a:xfrm>
            <a:off x="1100160" y="4356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3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35 - Στρογγυλεμένο ορθογώνιο"/>
          <p:cNvSpPr/>
          <p:nvPr/>
        </p:nvSpPr>
        <p:spPr>
          <a:xfrm>
            <a:off x="1108080" y="259236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36 - Στρογγυλεμένο ορθογώνιο"/>
          <p:cNvSpPr/>
          <p:nvPr/>
        </p:nvSpPr>
        <p:spPr>
          <a:xfrm>
            <a:off x="5357880" y="2592360"/>
            <a:ext cx="358560" cy="21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00"/>
                </a:solidFill>
                <a:latin typeface="Calibri"/>
              </a:rPr>
              <a:t>4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37 - Στρογγυλεμένο ορθογώνιο"/>
          <p:cNvSpPr/>
          <p:nvPr/>
        </p:nvSpPr>
        <p:spPr>
          <a:xfrm>
            <a:off x="5357880" y="435132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00"/>
                </a:solidFill>
                <a:latin typeface="Calibri"/>
              </a:rPr>
              <a:t>3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38 - Στρογγυλεμένο ορθογώνιο"/>
          <p:cNvSpPr/>
          <p:nvPr/>
        </p:nvSpPr>
        <p:spPr>
          <a:xfrm>
            <a:off x="5361120" y="60674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00"/>
                </a:solidFill>
                <a:latin typeface="Calibri"/>
              </a:rPr>
              <a:t>2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39 - Στρογγυλεμένο ορθογώνιο"/>
          <p:cNvSpPr/>
          <p:nvPr/>
        </p:nvSpPr>
        <p:spPr>
          <a:xfrm>
            <a:off x="4137120" y="85932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00"/>
                </a:solidFill>
                <a:latin typeface="Calibri"/>
              </a:rPr>
              <a:t>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41 - Στρογγυλεμένο ορθογώνιο"/>
          <p:cNvSpPr/>
          <p:nvPr/>
        </p:nvSpPr>
        <p:spPr>
          <a:xfrm>
            <a:off x="2521080" y="859644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42 - Δεξιό άγκιστρο"/>
          <p:cNvSpPr/>
          <p:nvPr/>
        </p:nvSpPr>
        <p:spPr>
          <a:xfrm>
            <a:off x="1557360" y="1816200"/>
            <a:ext cx="142920" cy="1800000"/>
          </a:xfrm>
          <a:custGeom>
            <a:avLst/>
            <a:gdLst>
              <a:gd name="textAreaLeft" fmla="*/ 0 w 142920"/>
              <a:gd name="textAreaRight" fmla="*/ 51480 w 142920"/>
              <a:gd name="textAreaTop" fmla="*/ 32760 h 1800000"/>
              <a:gd name="textAreaBottom" fmla="*/ 176724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29"/>
                  <a:pt x="10800" y="1257"/>
                </a:cubicBezTo>
                <a:lnTo>
                  <a:pt x="10800" y="9495"/>
                </a:lnTo>
                <a:cubicBezTo>
                  <a:pt x="10800" y="10124"/>
                  <a:pt x="16200" y="10752"/>
                  <a:pt x="21600" y="10752"/>
                </a:cubicBezTo>
                <a:cubicBezTo>
                  <a:pt x="16200" y="10752"/>
                  <a:pt x="10800" y="11381"/>
                  <a:pt x="10800" y="12009"/>
                </a:cubicBezTo>
                <a:lnTo>
                  <a:pt x="10800" y="20343"/>
                </a:lnTo>
                <a:cubicBezTo>
                  <a:pt x="10800" y="20972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43 - TextBox"/>
          <p:cNvSpPr/>
          <p:nvPr/>
        </p:nvSpPr>
        <p:spPr>
          <a:xfrm>
            <a:off x="1805040" y="2576520"/>
            <a:ext cx="151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00"/>
                </a:solidFill>
                <a:latin typeface="Calibri"/>
              </a:rPr>
              <a:t>5η π.Χ. χιλιετί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44 - Δεξιό άγκιστρο"/>
          <p:cNvSpPr/>
          <p:nvPr/>
        </p:nvSpPr>
        <p:spPr>
          <a:xfrm rot="10800000">
            <a:off x="5121000" y="1810800"/>
            <a:ext cx="144360" cy="1800360"/>
          </a:xfrm>
          <a:custGeom>
            <a:avLst/>
            <a:gdLst>
              <a:gd name="textAreaLeft" fmla="*/ 0 w 144360"/>
              <a:gd name="textAreaRight" fmla="*/ 52200 w 144360"/>
              <a:gd name="textAreaTop" fmla="*/ 33120 h 1800360"/>
              <a:gd name="textAreaBottom" fmla="*/ 1767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6"/>
                  <a:pt x="10800" y="1271"/>
                </a:cubicBezTo>
                <a:lnTo>
                  <a:pt x="10800" y="9481"/>
                </a:lnTo>
                <a:cubicBezTo>
                  <a:pt x="10800" y="10117"/>
                  <a:pt x="16200" y="10752"/>
                  <a:pt x="21600" y="10752"/>
                </a:cubicBezTo>
                <a:cubicBezTo>
                  <a:pt x="16200" y="10752"/>
                  <a:pt x="10800" y="11388"/>
                  <a:pt x="10800" y="12023"/>
                </a:cubicBezTo>
                <a:lnTo>
                  <a:pt x="10800" y="20329"/>
                </a:lnTo>
                <a:cubicBezTo>
                  <a:pt x="10800" y="20965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45 - TextBox"/>
          <p:cNvSpPr/>
          <p:nvPr/>
        </p:nvSpPr>
        <p:spPr>
          <a:xfrm>
            <a:off x="3549600" y="2575080"/>
            <a:ext cx="151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5η μ.Χ. χιλιετί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46 - Δεξιό άγκιστρο"/>
          <p:cNvSpPr/>
          <p:nvPr/>
        </p:nvSpPr>
        <p:spPr>
          <a:xfrm>
            <a:off x="1576440" y="4995720"/>
            <a:ext cx="108000" cy="395280"/>
          </a:xfrm>
          <a:custGeom>
            <a:avLst/>
            <a:gdLst>
              <a:gd name="textAreaLeft" fmla="*/ 0 w 108000"/>
              <a:gd name="textAreaRight" fmla="*/ 38880 w 108000"/>
              <a:gd name="textAreaTop" fmla="*/ 15840 h 395280"/>
              <a:gd name="textAreaBottom" fmla="*/ 37944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9"/>
                  <a:pt x="10800" y="2798"/>
                </a:cubicBezTo>
                <a:lnTo>
                  <a:pt x="10800" y="8002"/>
                </a:lnTo>
                <a:cubicBezTo>
                  <a:pt x="10800" y="9401"/>
                  <a:pt x="16200" y="10800"/>
                  <a:pt x="21600" y="10800"/>
                </a:cubicBezTo>
                <a:cubicBezTo>
                  <a:pt x="16200" y="10800"/>
                  <a:pt x="10800" y="12199"/>
                  <a:pt x="10800" y="13598"/>
                </a:cubicBezTo>
                <a:lnTo>
                  <a:pt x="10800" y="18802"/>
                </a:lnTo>
                <a:cubicBezTo>
                  <a:pt x="10800" y="20201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47 - TextBox"/>
          <p:cNvSpPr/>
          <p:nvPr/>
        </p:nvSpPr>
        <p:spPr>
          <a:xfrm>
            <a:off x="1781280" y="4975200"/>
            <a:ext cx="1511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Calibri"/>
              </a:rPr>
              <a:t>Τελευταίοι αιώνες 4ης π.Χ. χιλιετία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49 - TextBox"/>
          <p:cNvSpPr/>
          <p:nvPr/>
        </p:nvSpPr>
        <p:spPr>
          <a:xfrm>
            <a:off x="3716280" y="4978440"/>
            <a:ext cx="1366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alibri"/>
              </a:rPr>
              <a:t>Πρώτοι</a:t>
            </a:r>
            <a:r>
              <a:rPr b="1" lang="el-GR" sz="1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l-GR" sz="1400" spc="-1" strike="noStrike">
                <a:solidFill>
                  <a:srgbClr val="ffffff"/>
                </a:solidFill>
                <a:latin typeface="Calibri"/>
              </a:rPr>
              <a:t>αιώνες              4ης μ.Χ. χιλιετία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50 - Δεξιό άγκιστρο"/>
          <p:cNvSpPr/>
          <p:nvPr/>
        </p:nvSpPr>
        <p:spPr>
          <a:xfrm>
            <a:off x="1584360" y="612468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30600 h 934920"/>
              <a:gd name="textAreaBottom" fmla="*/ 9043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1"/>
                  <a:pt x="10800" y="2261"/>
                </a:cubicBezTo>
                <a:lnTo>
                  <a:pt x="10800" y="8491"/>
                </a:lnTo>
                <a:cubicBezTo>
                  <a:pt x="10800" y="9622"/>
                  <a:pt x="16200" y="10752"/>
                  <a:pt x="21600" y="10752"/>
                </a:cubicBezTo>
                <a:cubicBezTo>
                  <a:pt x="16200" y="10752"/>
                  <a:pt x="10800" y="11883"/>
                  <a:pt x="10800" y="13013"/>
                </a:cubicBezTo>
                <a:lnTo>
                  <a:pt x="10800" y="19339"/>
                </a:lnTo>
                <a:cubicBezTo>
                  <a:pt x="10800" y="2047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51 - Δεξιό άγκιστρο"/>
          <p:cNvSpPr/>
          <p:nvPr/>
        </p:nvSpPr>
        <p:spPr>
          <a:xfrm rot="10800000">
            <a:off x="5160960" y="4992840"/>
            <a:ext cx="108000" cy="395280"/>
          </a:xfrm>
          <a:custGeom>
            <a:avLst/>
            <a:gdLst>
              <a:gd name="textAreaLeft" fmla="*/ 0 w 108000"/>
              <a:gd name="textAreaRight" fmla="*/ 38880 w 108000"/>
              <a:gd name="textAreaTop" fmla="*/ 15480 h 395280"/>
              <a:gd name="textAreaBottom" fmla="*/ 37980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52"/>
                  <a:pt x="10800" y="2703"/>
                </a:cubicBezTo>
                <a:lnTo>
                  <a:pt x="10800" y="8097"/>
                </a:lnTo>
                <a:cubicBezTo>
                  <a:pt x="10800" y="9449"/>
                  <a:pt x="16200" y="10800"/>
                  <a:pt x="21600" y="10800"/>
                </a:cubicBezTo>
                <a:cubicBezTo>
                  <a:pt x="16200" y="10800"/>
                  <a:pt x="10800" y="12152"/>
                  <a:pt x="10800" y="13503"/>
                </a:cubicBezTo>
                <a:lnTo>
                  <a:pt x="10800" y="18897"/>
                </a:lnTo>
                <a:cubicBezTo>
                  <a:pt x="10800" y="2024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52 - TextBox"/>
          <p:cNvSpPr/>
          <p:nvPr/>
        </p:nvSpPr>
        <p:spPr>
          <a:xfrm>
            <a:off x="1841400" y="6372360"/>
            <a:ext cx="1295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Calibri"/>
              </a:rPr>
              <a:t>2ο μισό            3ης π.Χ. χιλιετία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53 - Δεξιό άγκιστρο"/>
          <p:cNvSpPr/>
          <p:nvPr/>
        </p:nvSpPr>
        <p:spPr>
          <a:xfrm rot="10800000">
            <a:off x="5113080" y="611640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30600 h 934920"/>
              <a:gd name="textAreaBottom" fmla="*/ 9043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1"/>
                  <a:pt x="10800" y="2261"/>
                </a:cubicBezTo>
                <a:lnTo>
                  <a:pt x="10800" y="8491"/>
                </a:lnTo>
                <a:cubicBezTo>
                  <a:pt x="10800" y="9622"/>
                  <a:pt x="16200" y="10752"/>
                  <a:pt x="21600" y="10752"/>
                </a:cubicBezTo>
                <a:cubicBezTo>
                  <a:pt x="16200" y="10752"/>
                  <a:pt x="10800" y="11883"/>
                  <a:pt x="10800" y="13013"/>
                </a:cubicBezTo>
                <a:lnTo>
                  <a:pt x="10800" y="19339"/>
                </a:lnTo>
                <a:cubicBezTo>
                  <a:pt x="10800" y="2047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54 - TextBox"/>
          <p:cNvSpPr/>
          <p:nvPr/>
        </p:nvSpPr>
        <p:spPr>
          <a:xfrm>
            <a:off x="3716280" y="6367320"/>
            <a:ext cx="1297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alibri"/>
              </a:rPr>
              <a:t>1ο μισό            3ης μ.Χ. χιλιετία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55 - Στρογγυλεμένο ορθογώνιο"/>
          <p:cNvSpPr/>
          <p:nvPr/>
        </p:nvSpPr>
        <p:spPr>
          <a:xfrm>
            <a:off x="1108080" y="572436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275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56 - Δεξιό άγκιστρο"/>
          <p:cNvSpPr/>
          <p:nvPr/>
        </p:nvSpPr>
        <p:spPr>
          <a:xfrm>
            <a:off x="1576440" y="5487840"/>
            <a:ext cx="108000" cy="395280"/>
          </a:xfrm>
          <a:custGeom>
            <a:avLst/>
            <a:gdLst>
              <a:gd name="textAreaLeft" fmla="*/ 0 w 108000"/>
              <a:gd name="textAreaRight" fmla="*/ 38880 w 108000"/>
              <a:gd name="textAreaTop" fmla="*/ 16560 h 395280"/>
              <a:gd name="textAreaBottom" fmla="*/ 378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47"/>
                  <a:pt x="10800" y="2893"/>
                </a:cubicBezTo>
                <a:lnTo>
                  <a:pt x="10800" y="7907"/>
                </a:lnTo>
                <a:cubicBezTo>
                  <a:pt x="10800" y="9354"/>
                  <a:pt x="16200" y="10800"/>
                  <a:pt x="21600" y="10800"/>
                </a:cubicBezTo>
                <a:cubicBezTo>
                  <a:pt x="16200" y="10800"/>
                  <a:pt x="10800" y="12247"/>
                  <a:pt x="10800" y="13693"/>
                </a:cubicBezTo>
                <a:lnTo>
                  <a:pt x="10800" y="18707"/>
                </a:lnTo>
                <a:cubicBezTo>
                  <a:pt x="10800" y="20154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57 - TextBox"/>
          <p:cNvSpPr/>
          <p:nvPr/>
        </p:nvSpPr>
        <p:spPr>
          <a:xfrm>
            <a:off x="1768320" y="5467320"/>
            <a:ext cx="1300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Calibri"/>
              </a:rPr>
              <a:t>Πρώτο τέταρτο 3ης π.Χ. χιλιετία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58 - Δεξιό άγκιστρο"/>
          <p:cNvSpPr/>
          <p:nvPr/>
        </p:nvSpPr>
        <p:spPr>
          <a:xfrm rot="10800000">
            <a:off x="5149800" y="5487840"/>
            <a:ext cx="108000" cy="395280"/>
          </a:xfrm>
          <a:custGeom>
            <a:avLst/>
            <a:gdLst>
              <a:gd name="textAreaLeft" fmla="*/ 0 w 108000"/>
              <a:gd name="textAreaRight" fmla="*/ 38880 w 108000"/>
              <a:gd name="textAreaTop" fmla="*/ 15480 h 395280"/>
              <a:gd name="textAreaBottom" fmla="*/ 37980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52"/>
                  <a:pt x="10800" y="2703"/>
                </a:cubicBezTo>
                <a:lnTo>
                  <a:pt x="10800" y="8097"/>
                </a:lnTo>
                <a:cubicBezTo>
                  <a:pt x="10800" y="9449"/>
                  <a:pt x="16200" y="10800"/>
                  <a:pt x="21600" y="10800"/>
                </a:cubicBezTo>
                <a:cubicBezTo>
                  <a:pt x="16200" y="10800"/>
                  <a:pt x="10800" y="12152"/>
                  <a:pt x="10800" y="13503"/>
                </a:cubicBezTo>
                <a:lnTo>
                  <a:pt x="10800" y="18897"/>
                </a:lnTo>
                <a:cubicBezTo>
                  <a:pt x="10800" y="2024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59 - Στρογγυλεμένο ορθογώνιο"/>
          <p:cNvSpPr/>
          <p:nvPr/>
        </p:nvSpPr>
        <p:spPr>
          <a:xfrm>
            <a:off x="5353200" y="57006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00"/>
                </a:solidFill>
                <a:latin typeface="Calibri"/>
              </a:rPr>
              <a:t>275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60 - TextBox"/>
          <p:cNvSpPr/>
          <p:nvPr/>
        </p:nvSpPr>
        <p:spPr>
          <a:xfrm>
            <a:off x="3652920" y="5472000"/>
            <a:ext cx="1428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alibri"/>
              </a:rPr>
              <a:t>Τελευταίο τέταρτο 3ης μ.Χ. χιλιετία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61 - TextBox"/>
          <p:cNvSpPr/>
          <p:nvPr/>
        </p:nvSpPr>
        <p:spPr>
          <a:xfrm>
            <a:off x="1708200" y="7548480"/>
            <a:ext cx="172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ffff00"/>
                </a:solidFill>
                <a:latin typeface="Calibri"/>
              </a:rPr>
              <a:t>Μέσα 2ης π.Χ. χιλιετία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62 - TextBox"/>
          <p:cNvSpPr/>
          <p:nvPr/>
        </p:nvSpPr>
        <p:spPr>
          <a:xfrm>
            <a:off x="3444840" y="7551720"/>
            <a:ext cx="165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ffffff"/>
                </a:solidFill>
                <a:latin typeface="Calibri"/>
              </a:rPr>
              <a:t>Μέσα 2ης μ.Χ. χιλιετία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63 - TextBox"/>
          <p:cNvSpPr/>
          <p:nvPr/>
        </p:nvSpPr>
        <p:spPr>
          <a:xfrm>
            <a:off x="1386000" y="617400"/>
            <a:ext cx="1630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Πότε αρχίζει ο ιστορικός χρόνο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64 - TextBox"/>
          <p:cNvSpPr/>
          <p:nvPr/>
        </p:nvSpPr>
        <p:spPr>
          <a:xfrm>
            <a:off x="3598920" y="614520"/>
            <a:ext cx="1728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Ο ιστορικός χρόνος θα τελειώσει με την εξαφάνιση του ανθρώπο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65 - TextBox"/>
          <p:cNvSpPr/>
          <p:nvPr/>
        </p:nvSpPr>
        <p:spPr>
          <a:xfrm>
            <a:off x="3714840" y="614520"/>
            <a:ext cx="1630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Πότε τελειώνει ο ιστορικός χρόνο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66 - TextBox"/>
          <p:cNvSpPr/>
          <p:nvPr/>
        </p:nvSpPr>
        <p:spPr>
          <a:xfrm>
            <a:off x="1387440" y="617400"/>
            <a:ext cx="19432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Ο ιστορικός χρόνος αρχίζει με την εμφάνιση του ανθρώπο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3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144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122 - Ευθεία γραμμή σύνδεσης"/>
          <p:cNvSpPr/>
          <p:nvPr/>
        </p:nvSpPr>
        <p:spPr>
          <a:xfrm>
            <a:off x="1289160" y="387360"/>
            <a:ext cx="0" cy="6119640"/>
          </a:xfrm>
          <a:prstGeom prst="line">
            <a:avLst/>
          </a:prstGeom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123 - Τόξο"/>
          <p:cNvSpPr/>
          <p:nvPr/>
        </p:nvSpPr>
        <p:spPr>
          <a:xfrm rot="5400000">
            <a:off x="1289160" y="4373640"/>
            <a:ext cx="4248000" cy="4248000"/>
          </a:xfrm>
          <a:custGeom>
            <a:avLst/>
            <a:gdLst/>
            <a:ahLst/>
            <a:rect l="l" t="t" r="r" b="b"/>
            <a:pathLst>
              <a:path stroke="0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  <a:lnTo>
                  <a:pt x="2124075" y="2124075"/>
                </a:lnTo>
                <a:lnTo>
                  <a:pt x="2124075" y="0"/>
                </a:lnTo>
                <a:close/>
              </a:path>
              <a:path fill="none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124 - Ευθεία γραμμή σύνδεσης"/>
          <p:cNvSpPr/>
          <p:nvPr/>
        </p:nvSpPr>
        <p:spPr>
          <a:xfrm>
            <a:off x="5537160" y="378000"/>
            <a:ext cx="0" cy="6119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125 - Έλλειψη"/>
          <p:cNvSpPr/>
          <p:nvPr/>
        </p:nvSpPr>
        <p:spPr>
          <a:xfrm>
            <a:off x="3386160" y="854856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42 - Έλλειψη"/>
          <p:cNvSpPr/>
          <p:nvPr/>
        </p:nvSpPr>
        <p:spPr>
          <a:xfrm>
            <a:off x="2371680" y="832788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43 - Έλλειψη"/>
          <p:cNvSpPr/>
          <p:nvPr/>
        </p:nvSpPr>
        <p:spPr>
          <a:xfrm>
            <a:off x="1571760" y="7612200"/>
            <a:ext cx="107640" cy="107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44 - Έλλειψη"/>
          <p:cNvSpPr/>
          <p:nvPr/>
        </p:nvSpPr>
        <p:spPr>
          <a:xfrm>
            <a:off x="1260360" y="681516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45 - Έλλειψη"/>
          <p:cNvSpPr/>
          <p:nvPr/>
        </p:nvSpPr>
        <p:spPr>
          <a:xfrm>
            <a:off x="1235160" y="608796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46 - Έλλειψη"/>
          <p:cNvSpPr/>
          <p:nvPr/>
        </p:nvSpPr>
        <p:spPr>
          <a:xfrm>
            <a:off x="1227240" y="536724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47 - Έλλειψη"/>
          <p:cNvSpPr/>
          <p:nvPr/>
        </p:nvSpPr>
        <p:spPr>
          <a:xfrm>
            <a:off x="1228680" y="464832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48 - Έλλειψη"/>
          <p:cNvSpPr/>
          <p:nvPr/>
        </p:nvSpPr>
        <p:spPr>
          <a:xfrm>
            <a:off x="1235160" y="392760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49 - Έλλειψη"/>
          <p:cNvSpPr/>
          <p:nvPr/>
        </p:nvSpPr>
        <p:spPr>
          <a:xfrm>
            <a:off x="1231920" y="321156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50 - Έλλειψη"/>
          <p:cNvSpPr/>
          <p:nvPr/>
        </p:nvSpPr>
        <p:spPr>
          <a:xfrm>
            <a:off x="1235160" y="249084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51 - Έλλειψη"/>
          <p:cNvSpPr/>
          <p:nvPr/>
        </p:nvSpPr>
        <p:spPr>
          <a:xfrm>
            <a:off x="1231920" y="177156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52 - Έλλειψη"/>
          <p:cNvSpPr/>
          <p:nvPr/>
        </p:nvSpPr>
        <p:spPr>
          <a:xfrm>
            <a:off x="1227240" y="105084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54 - TextBox"/>
          <p:cNvSpPr/>
          <p:nvPr/>
        </p:nvSpPr>
        <p:spPr>
          <a:xfrm rot="18000000">
            <a:off x="2352240" y="79873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55 - TextBox"/>
          <p:cNvSpPr/>
          <p:nvPr/>
        </p:nvSpPr>
        <p:spPr>
          <a:xfrm rot="19620000">
            <a:off x="1662120" y="734724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56 - TextBox"/>
          <p:cNvSpPr/>
          <p:nvPr/>
        </p:nvSpPr>
        <p:spPr>
          <a:xfrm rot="20820000">
            <a:off x="1404720" y="664596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57 - TextBox"/>
          <p:cNvSpPr/>
          <p:nvPr/>
        </p:nvSpPr>
        <p:spPr>
          <a:xfrm>
            <a:off x="1397160" y="599760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58 - TextBox"/>
          <p:cNvSpPr/>
          <p:nvPr/>
        </p:nvSpPr>
        <p:spPr>
          <a:xfrm>
            <a:off x="1366920" y="527760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59 - TextBox"/>
          <p:cNvSpPr/>
          <p:nvPr/>
        </p:nvSpPr>
        <p:spPr>
          <a:xfrm>
            <a:off x="1398600" y="456156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60 - TextBox"/>
          <p:cNvSpPr/>
          <p:nvPr/>
        </p:nvSpPr>
        <p:spPr>
          <a:xfrm>
            <a:off x="1413000" y="384876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7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61 - TextBox"/>
          <p:cNvSpPr/>
          <p:nvPr/>
        </p:nvSpPr>
        <p:spPr>
          <a:xfrm>
            <a:off x="1397160" y="312480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62 - TextBox"/>
          <p:cNvSpPr/>
          <p:nvPr/>
        </p:nvSpPr>
        <p:spPr>
          <a:xfrm>
            <a:off x="1413000" y="240840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63 - TextBox"/>
          <p:cNvSpPr/>
          <p:nvPr/>
        </p:nvSpPr>
        <p:spPr>
          <a:xfrm>
            <a:off x="1409760" y="1687680"/>
            <a:ext cx="57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64 - TextBox"/>
          <p:cNvSpPr/>
          <p:nvPr/>
        </p:nvSpPr>
        <p:spPr>
          <a:xfrm>
            <a:off x="1395360" y="956520"/>
            <a:ext cx="50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68 - Αριστερό άγκιστρο"/>
          <p:cNvSpPr/>
          <p:nvPr/>
        </p:nvSpPr>
        <p:spPr>
          <a:xfrm>
            <a:off x="1084320" y="1100160"/>
            <a:ext cx="108000" cy="720720"/>
          </a:xfrm>
          <a:custGeom>
            <a:avLst/>
            <a:gdLst>
              <a:gd name="textAreaLeft" fmla="*/ 69120 w 108000"/>
              <a:gd name="textAreaRight" fmla="*/ 108360 w 10800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69 - TextBox"/>
          <p:cNvSpPr/>
          <p:nvPr/>
        </p:nvSpPr>
        <p:spPr>
          <a:xfrm>
            <a:off x="885240" y="110340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1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70 - Αριστερό άγκιστρο"/>
          <p:cNvSpPr/>
          <p:nvPr/>
        </p:nvSpPr>
        <p:spPr>
          <a:xfrm>
            <a:off x="1081080" y="1822320"/>
            <a:ext cx="108000" cy="720720"/>
          </a:xfrm>
          <a:custGeom>
            <a:avLst/>
            <a:gdLst>
              <a:gd name="textAreaLeft" fmla="*/ 69120 w 108000"/>
              <a:gd name="textAreaRight" fmla="*/ 108360 w 10800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71 - TextBox"/>
          <p:cNvSpPr/>
          <p:nvPr/>
        </p:nvSpPr>
        <p:spPr>
          <a:xfrm>
            <a:off x="885240" y="182556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74 - Αριστερό άγκιστρο"/>
          <p:cNvSpPr/>
          <p:nvPr/>
        </p:nvSpPr>
        <p:spPr>
          <a:xfrm>
            <a:off x="1084320" y="2546280"/>
            <a:ext cx="108000" cy="719280"/>
          </a:xfrm>
          <a:custGeom>
            <a:avLst/>
            <a:gdLst>
              <a:gd name="textAreaLeft" fmla="*/ 69120 w 108000"/>
              <a:gd name="textAreaRight" fmla="*/ 108360 w 108000"/>
              <a:gd name="textAreaTop" fmla="*/ 29880 h 719280"/>
              <a:gd name="textAreaBottom" fmla="*/ 68940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7"/>
                  <a:pt x="10800" y="2894"/>
                </a:cubicBezTo>
                <a:lnTo>
                  <a:pt x="10800" y="7906"/>
                </a:lnTo>
                <a:cubicBezTo>
                  <a:pt x="10800" y="9353"/>
                  <a:pt x="5400" y="10800"/>
                  <a:pt x="0" y="10800"/>
                </a:cubicBezTo>
                <a:cubicBezTo>
                  <a:pt x="5400" y="10800"/>
                  <a:pt x="10800" y="12247"/>
                  <a:pt x="10800" y="13694"/>
                </a:cubicBezTo>
                <a:lnTo>
                  <a:pt x="10800" y="18706"/>
                </a:lnTo>
                <a:cubicBezTo>
                  <a:pt x="10800" y="20153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75 - TextBox"/>
          <p:cNvSpPr/>
          <p:nvPr/>
        </p:nvSpPr>
        <p:spPr>
          <a:xfrm>
            <a:off x="888480" y="254484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76 - Αριστερό άγκιστρο"/>
          <p:cNvSpPr/>
          <p:nvPr/>
        </p:nvSpPr>
        <p:spPr>
          <a:xfrm>
            <a:off x="1084320" y="3265560"/>
            <a:ext cx="108000" cy="720720"/>
          </a:xfrm>
          <a:custGeom>
            <a:avLst/>
            <a:gdLst>
              <a:gd name="textAreaLeft" fmla="*/ 69120 w 108000"/>
              <a:gd name="textAreaRight" fmla="*/ 108360 w 10800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77 - TextBox"/>
          <p:cNvSpPr/>
          <p:nvPr/>
        </p:nvSpPr>
        <p:spPr>
          <a:xfrm>
            <a:off x="884520" y="3267000"/>
            <a:ext cx="1677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78 - Αριστερό άγκιστρο"/>
          <p:cNvSpPr/>
          <p:nvPr/>
        </p:nvSpPr>
        <p:spPr>
          <a:xfrm>
            <a:off x="1081080" y="3987720"/>
            <a:ext cx="108000" cy="720720"/>
          </a:xfrm>
          <a:custGeom>
            <a:avLst/>
            <a:gdLst>
              <a:gd name="textAreaLeft" fmla="*/ 69120 w 108000"/>
              <a:gd name="textAreaRight" fmla="*/ 108360 w 10800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79 - TextBox"/>
          <p:cNvSpPr/>
          <p:nvPr/>
        </p:nvSpPr>
        <p:spPr>
          <a:xfrm>
            <a:off x="887400" y="398304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80 - Αριστερό άγκιστρο"/>
          <p:cNvSpPr/>
          <p:nvPr/>
        </p:nvSpPr>
        <p:spPr>
          <a:xfrm>
            <a:off x="1084320" y="4705200"/>
            <a:ext cx="108000" cy="720720"/>
          </a:xfrm>
          <a:custGeom>
            <a:avLst/>
            <a:gdLst>
              <a:gd name="textAreaLeft" fmla="*/ 69120 w 108000"/>
              <a:gd name="textAreaRight" fmla="*/ 108360 w 10800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81 - TextBox"/>
          <p:cNvSpPr/>
          <p:nvPr/>
        </p:nvSpPr>
        <p:spPr>
          <a:xfrm>
            <a:off x="885240" y="470052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82 - Αριστερό άγκιστρο"/>
          <p:cNvSpPr/>
          <p:nvPr/>
        </p:nvSpPr>
        <p:spPr>
          <a:xfrm>
            <a:off x="1079640" y="5427720"/>
            <a:ext cx="107640" cy="718920"/>
          </a:xfrm>
          <a:custGeom>
            <a:avLst/>
            <a:gdLst>
              <a:gd name="textAreaLeft" fmla="*/ 68760 w 107640"/>
              <a:gd name="textAreaRight" fmla="*/ 108000 w 107640"/>
              <a:gd name="textAreaTop" fmla="*/ 29880 h 718920"/>
              <a:gd name="textAreaBottom" fmla="*/ 68904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7"/>
                  <a:pt x="10800" y="2894"/>
                </a:cubicBezTo>
                <a:lnTo>
                  <a:pt x="10800" y="7906"/>
                </a:lnTo>
                <a:cubicBezTo>
                  <a:pt x="10800" y="9353"/>
                  <a:pt x="5400" y="10800"/>
                  <a:pt x="0" y="10800"/>
                </a:cubicBezTo>
                <a:cubicBezTo>
                  <a:pt x="5400" y="10800"/>
                  <a:pt x="10800" y="12247"/>
                  <a:pt x="10800" y="13694"/>
                </a:cubicBezTo>
                <a:lnTo>
                  <a:pt x="10800" y="18706"/>
                </a:lnTo>
                <a:cubicBezTo>
                  <a:pt x="10800" y="20153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83 - TextBox"/>
          <p:cNvSpPr/>
          <p:nvPr/>
        </p:nvSpPr>
        <p:spPr>
          <a:xfrm>
            <a:off x="885240" y="543240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84 - Αριστερό άγκιστρο"/>
          <p:cNvSpPr/>
          <p:nvPr/>
        </p:nvSpPr>
        <p:spPr>
          <a:xfrm rot="21420000">
            <a:off x="1100160" y="6154200"/>
            <a:ext cx="108000" cy="721080"/>
          </a:xfrm>
          <a:custGeom>
            <a:avLst/>
            <a:gdLst>
              <a:gd name="textAreaLeft" fmla="*/ 69120 w 108000"/>
              <a:gd name="textAreaRight" fmla="*/ 108360 w 108000"/>
              <a:gd name="textAreaTop" fmla="*/ 29880 h 721080"/>
              <a:gd name="textAreaBottom" fmla="*/ 691200 h 7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85 - TextBox"/>
          <p:cNvSpPr/>
          <p:nvPr/>
        </p:nvSpPr>
        <p:spPr>
          <a:xfrm rot="21480000">
            <a:off x="896760" y="615960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86 - Αριστερό άγκιστρο"/>
          <p:cNvSpPr/>
          <p:nvPr/>
        </p:nvSpPr>
        <p:spPr>
          <a:xfrm rot="20340000">
            <a:off x="1273320" y="6867000"/>
            <a:ext cx="109440" cy="900360"/>
          </a:xfrm>
          <a:custGeom>
            <a:avLst/>
            <a:gdLst>
              <a:gd name="textAreaLeft" fmla="*/ 69840 w 109440"/>
              <a:gd name="textAreaRight" fmla="*/ 109800 w 109440"/>
              <a:gd name="textAreaTop" fmla="*/ 30600 h 900360"/>
              <a:gd name="textAreaBottom" fmla="*/ 869760 h 9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73"/>
                  <a:pt x="10800" y="2346"/>
                </a:cubicBezTo>
                <a:lnTo>
                  <a:pt x="10800" y="8454"/>
                </a:lnTo>
                <a:cubicBezTo>
                  <a:pt x="10800" y="9627"/>
                  <a:pt x="5400" y="10800"/>
                  <a:pt x="0" y="10800"/>
                </a:cubicBezTo>
                <a:cubicBezTo>
                  <a:pt x="5400" y="10800"/>
                  <a:pt x="10800" y="11973"/>
                  <a:pt x="10800" y="13146"/>
                </a:cubicBezTo>
                <a:lnTo>
                  <a:pt x="10800" y="19254"/>
                </a:lnTo>
                <a:cubicBezTo>
                  <a:pt x="10800" y="2042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87 - TextBox"/>
          <p:cNvSpPr/>
          <p:nvPr/>
        </p:nvSpPr>
        <p:spPr>
          <a:xfrm rot="20400000">
            <a:off x="1080360" y="699732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88 - Αριστερό άγκιστρο"/>
          <p:cNvSpPr/>
          <p:nvPr/>
        </p:nvSpPr>
        <p:spPr>
          <a:xfrm rot="18720000">
            <a:off x="1798560" y="7606800"/>
            <a:ext cx="179640" cy="1116000"/>
          </a:xfrm>
          <a:custGeom>
            <a:avLst/>
            <a:gdLst>
              <a:gd name="textAreaLeft" fmla="*/ 114840 w 179640"/>
              <a:gd name="textAreaRight" fmla="*/ 180000 w 179640"/>
              <a:gd name="textAreaTop" fmla="*/ 50040 h 1116000"/>
              <a:gd name="textAreaBottom" fmla="*/ 1065960 h 11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49"/>
                  <a:pt x="10800" y="3098"/>
                </a:cubicBezTo>
                <a:lnTo>
                  <a:pt x="10800" y="7702"/>
                </a:lnTo>
                <a:cubicBezTo>
                  <a:pt x="10800" y="9251"/>
                  <a:pt x="5400" y="10800"/>
                  <a:pt x="0" y="10800"/>
                </a:cubicBezTo>
                <a:cubicBezTo>
                  <a:pt x="5400" y="10800"/>
                  <a:pt x="10800" y="12349"/>
                  <a:pt x="10800" y="13898"/>
                </a:cubicBezTo>
                <a:lnTo>
                  <a:pt x="10800" y="18502"/>
                </a:lnTo>
                <a:cubicBezTo>
                  <a:pt x="10800" y="20051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89 - TextBox"/>
          <p:cNvSpPr/>
          <p:nvPr/>
        </p:nvSpPr>
        <p:spPr>
          <a:xfrm rot="18780000">
            <a:off x="1679400" y="787644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90 - Αριστερό άγκιστρο"/>
          <p:cNvSpPr/>
          <p:nvPr/>
        </p:nvSpPr>
        <p:spPr>
          <a:xfrm rot="16860000">
            <a:off x="2778840" y="8137800"/>
            <a:ext cx="215640" cy="111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60120 h 1116000"/>
              <a:gd name="textAreaBottom" fmla="*/ 1055880 h 11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65"/>
                  <a:pt x="10800" y="3729"/>
                </a:cubicBezTo>
                <a:lnTo>
                  <a:pt x="10800" y="7071"/>
                </a:lnTo>
                <a:cubicBezTo>
                  <a:pt x="10800" y="8936"/>
                  <a:pt x="5400" y="10800"/>
                  <a:pt x="0" y="10800"/>
                </a:cubicBezTo>
                <a:cubicBezTo>
                  <a:pt x="5400" y="10800"/>
                  <a:pt x="10800" y="12665"/>
                  <a:pt x="10800" y="14529"/>
                </a:cubicBezTo>
                <a:lnTo>
                  <a:pt x="10800" y="17871"/>
                </a:lnTo>
                <a:cubicBezTo>
                  <a:pt x="10800" y="19736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91 - TextBox"/>
          <p:cNvSpPr/>
          <p:nvPr/>
        </p:nvSpPr>
        <p:spPr>
          <a:xfrm rot="16860000">
            <a:off x="2757600" y="8548560"/>
            <a:ext cx="16776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93 - Αριστερό άγκιστρο"/>
          <p:cNvSpPr/>
          <p:nvPr/>
        </p:nvSpPr>
        <p:spPr>
          <a:xfrm flipH="1" rot="4440000">
            <a:off x="3897720" y="8125920"/>
            <a:ext cx="216000" cy="107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1079280"/>
              <a:gd name="textAreaBottom" fmla="*/ 101916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28"/>
                  <a:pt x="10800" y="3855"/>
                </a:cubicBezTo>
                <a:lnTo>
                  <a:pt x="10800" y="6945"/>
                </a:lnTo>
                <a:cubicBezTo>
                  <a:pt x="10800" y="8873"/>
                  <a:pt x="5400" y="10800"/>
                  <a:pt x="0" y="10800"/>
                </a:cubicBezTo>
                <a:cubicBezTo>
                  <a:pt x="5400" y="10800"/>
                  <a:pt x="10800" y="12728"/>
                  <a:pt x="10800" y="14655"/>
                </a:cubicBezTo>
                <a:lnTo>
                  <a:pt x="10800" y="17745"/>
                </a:lnTo>
                <a:cubicBezTo>
                  <a:pt x="10800" y="19673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94 - Έλλειψη"/>
          <p:cNvSpPr/>
          <p:nvPr/>
        </p:nvSpPr>
        <p:spPr>
          <a:xfrm>
            <a:off x="4408560" y="827712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95 - TextBox"/>
          <p:cNvSpPr/>
          <p:nvPr/>
        </p:nvSpPr>
        <p:spPr>
          <a:xfrm rot="3720000">
            <a:off x="4101840" y="792036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96 - TextBox"/>
          <p:cNvSpPr/>
          <p:nvPr/>
        </p:nvSpPr>
        <p:spPr>
          <a:xfrm rot="2100000">
            <a:off x="4734000" y="735444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97 - Αριστερό άγκιστρο"/>
          <p:cNvSpPr/>
          <p:nvPr/>
        </p:nvSpPr>
        <p:spPr>
          <a:xfrm flipH="1" rot="2880000">
            <a:off x="4838040" y="7656840"/>
            <a:ext cx="215640" cy="1008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60120 h 1008000"/>
              <a:gd name="textAreaBottom" fmla="*/ 9478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64"/>
                  <a:pt x="10800" y="4128"/>
                </a:cubicBezTo>
                <a:lnTo>
                  <a:pt x="10800" y="6672"/>
                </a:lnTo>
                <a:cubicBezTo>
                  <a:pt x="10800" y="8736"/>
                  <a:pt x="5400" y="10800"/>
                  <a:pt x="0" y="10800"/>
                </a:cubicBezTo>
                <a:cubicBezTo>
                  <a:pt x="5400" y="10800"/>
                  <a:pt x="10800" y="12864"/>
                  <a:pt x="10800" y="14928"/>
                </a:cubicBezTo>
                <a:lnTo>
                  <a:pt x="10800" y="17472"/>
                </a:lnTo>
                <a:cubicBezTo>
                  <a:pt x="10800" y="19536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99 - Έλλειψη"/>
          <p:cNvSpPr/>
          <p:nvPr/>
        </p:nvSpPr>
        <p:spPr>
          <a:xfrm>
            <a:off x="5135400" y="7613640"/>
            <a:ext cx="108000" cy="109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100 - Έλλειψη"/>
          <p:cNvSpPr/>
          <p:nvPr/>
        </p:nvSpPr>
        <p:spPr>
          <a:xfrm>
            <a:off x="5450040" y="6815160"/>
            <a:ext cx="10764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101 - TextBox"/>
          <p:cNvSpPr/>
          <p:nvPr/>
        </p:nvSpPr>
        <p:spPr>
          <a:xfrm rot="780000">
            <a:off x="4991040" y="667296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102 - Έλλειψη"/>
          <p:cNvSpPr/>
          <p:nvPr/>
        </p:nvSpPr>
        <p:spPr>
          <a:xfrm>
            <a:off x="5477040" y="6087960"/>
            <a:ext cx="10764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103 - TextBox"/>
          <p:cNvSpPr/>
          <p:nvPr/>
        </p:nvSpPr>
        <p:spPr>
          <a:xfrm>
            <a:off x="5016600" y="600228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104 - Έλλειψη"/>
          <p:cNvSpPr/>
          <p:nvPr/>
        </p:nvSpPr>
        <p:spPr>
          <a:xfrm>
            <a:off x="5477040" y="5367240"/>
            <a:ext cx="10764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105 - TextBox"/>
          <p:cNvSpPr/>
          <p:nvPr/>
        </p:nvSpPr>
        <p:spPr>
          <a:xfrm>
            <a:off x="5013360" y="528300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106 - Έλλειψη"/>
          <p:cNvSpPr/>
          <p:nvPr/>
        </p:nvSpPr>
        <p:spPr>
          <a:xfrm>
            <a:off x="5478480" y="464832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107 - TextBox"/>
          <p:cNvSpPr/>
          <p:nvPr/>
        </p:nvSpPr>
        <p:spPr>
          <a:xfrm>
            <a:off x="5005440" y="456228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108 - Έλλειψη"/>
          <p:cNvSpPr/>
          <p:nvPr/>
        </p:nvSpPr>
        <p:spPr>
          <a:xfrm>
            <a:off x="5478480" y="392760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109 - TextBox"/>
          <p:cNvSpPr/>
          <p:nvPr/>
        </p:nvSpPr>
        <p:spPr>
          <a:xfrm>
            <a:off x="5008680" y="384480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110 - Έλλειψη"/>
          <p:cNvSpPr/>
          <p:nvPr/>
        </p:nvSpPr>
        <p:spPr>
          <a:xfrm>
            <a:off x="5481720" y="320508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111 - TextBox"/>
          <p:cNvSpPr/>
          <p:nvPr/>
        </p:nvSpPr>
        <p:spPr>
          <a:xfrm>
            <a:off x="5005440" y="3122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112 - Έλλειψη"/>
          <p:cNvSpPr/>
          <p:nvPr/>
        </p:nvSpPr>
        <p:spPr>
          <a:xfrm>
            <a:off x="5477040" y="2487600"/>
            <a:ext cx="10764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113 - TextBox"/>
          <p:cNvSpPr/>
          <p:nvPr/>
        </p:nvSpPr>
        <p:spPr>
          <a:xfrm>
            <a:off x="5000760" y="2402640"/>
            <a:ext cx="43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114 - Έλλειψη"/>
          <p:cNvSpPr/>
          <p:nvPr/>
        </p:nvSpPr>
        <p:spPr>
          <a:xfrm>
            <a:off x="5477040" y="1768320"/>
            <a:ext cx="10764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115 - TextBox"/>
          <p:cNvSpPr/>
          <p:nvPr/>
        </p:nvSpPr>
        <p:spPr>
          <a:xfrm>
            <a:off x="4878360" y="1682640"/>
            <a:ext cx="53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116 - TextBox"/>
          <p:cNvSpPr/>
          <p:nvPr/>
        </p:nvSpPr>
        <p:spPr>
          <a:xfrm>
            <a:off x="4878360" y="961920"/>
            <a:ext cx="53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1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117 - Έλλειψη"/>
          <p:cNvSpPr/>
          <p:nvPr/>
        </p:nvSpPr>
        <p:spPr>
          <a:xfrm>
            <a:off x="5478480" y="1044720"/>
            <a:ext cx="108000" cy="107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118 - Ρόμβος"/>
          <p:cNvSpPr/>
          <p:nvPr/>
        </p:nvSpPr>
        <p:spPr>
          <a:xfrm>
            <a:off x="1249200" y="1419120"/>
            <a:ext cx="73080" cy="716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119 - TextBox"/>
          <p:cNvSpPr/>
          <p:nvPr/>
        </p:nvSpPr>
        <p:spPr>
          <a:xfrm>
            <a:off x="1442880" y="1365120"/>
            <a:ext cx="39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10</a:t>
            </a:r>
            <a:r>
              <a:rPr b="1" lang="el-GR" sz="1200" spc="-1" strike="noStrike">
                <a:solidFill>
                  <a:srgbClr val="ffffff"/>
                </a:solidFill>
                <a:latin typeface="Calibri"/>
                <a:ea typeface="Arial"/>
              </a:rPr>
              <a:t>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120 - TextBox"/>
          <p:cNvSpPr/>
          <p:nvPr/>
        </p:nvSpPr>
        <p:spPr>
          <a:xfrm>
            <a:off x="1474920" y="2087640"/>
            <a:ext cx="28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9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121 - Ρόμβος"/>
          <p:cNvSpPr/>
          <p:nvPr/>
        </p:nvSpPr>
        <p:spPr>
          <a:xfrm>
            <a:off x="1252440" y="2141640"/>
            <a:ext cx="71640" cy="730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126 - Ρόμβος"/>
          <p:cNvSpPr/>
          <p:nvPr/>
        </p:nvSpPr>
        <p:spPr>
          <a:xfrm>
            <a:off x="1247760" y="2859120"/>
            <a:ext cx="71280" cy="730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127 - TextBox"/>
          <p:cNvSpPr/>
          <p:nvPr/>
        </p:nvSpPr>
        <p:spPr>
          <a:xfrm>
            <a:off x="1460520" y="2801880"/>
            <a:ext cx="28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8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128 - Ρόμβος"/>
          <p:cNvSpPr/>
          <p:nvPr/>
        </p:nvSpPr>
        <p:spPr>
          <a:xfrm>
            <a:off x="1247760" y="3584520"/>
            <a:ext cx="71280" cy="716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129 - TextBox"/>
          <p:cNvSpPr/>
          <p:nvPr/>
        </p:nvSpPr>
        <p:spPr>
          <a:xfrm>
            <a:off x="1434960" y="3527280"/>
            <a:ext cx="28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7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130 - Ρόμβος"/>
          <p:cNvSpPr/>
          <p:nvPr/>
        </p:nvSpPr>
        <p:spPr>
          <a:xfrm>
            <a:off x="1252440" y="4300560"/>
            <a:ext cx="7164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131 - TextBox"/>
          <p:cNvSpPr/>
          <p:nvPr/>
        </p:nvSpPr>
        <p:spPr>
          <a:xfrm>
            <a:off x="1442880" y="4241880"/>
            <a:ext cx="28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6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132 - Ρόμβος"/>
          <p:cNvSpPr/>
          <p:nvPr/>
        </p:nvSpPr>
        <p:spPr>
          <a:xfrm>
            <a:off x="1247760" y="5027760"/>
            <a:ext cx="7128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133 - TextBox"/>
          <p:cNvSpPr/>
          <p:nvPr/>
        </p:nvSpPr>
        <p:spPr>
          <a:xfrm>
            <a:off x="1442880" y="4968720"/>
            <a:ext cx="28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55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134 - Ρόμβος"/>
          <p:cNvSpPr/>
          <p:nvPr/>
        </p:nvSpPr>
        <p:spPr>
          <a:xfrm>
            <a:off x="1249200" y="5749920"/>
            <a:ext cx="7308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135 - TextBox"/>
          <p:cNvSpPr/>
          <p:nvPr/>
        </p:nvSpPr>
        <p:spPr>
          <a:xfrm>
            <a:off x="1405080" y="5692680"/>
            <a:ext cx="2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4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136 - Ρόμβος"/>
          <p:cNvSpPr/>
          <p:nvPr/>
        </p:nvSpPr>
        <p:spPr>
          <a:xfrm>
            <a:off x="1249200" y="6465960"/>
            <a:ext cx="7308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137 - TextBox"/>
          <p:cNvSpPr/>
          <p:nvPr/>
        </p:nvSpPr>
        <p:spPr>
          <a:xfrm rot="21360000">
            <a:off x="1383840" y="6397920"/>
            <a:ext cx="28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Arial"/>
                <a:ea typeface="Arial"/>
              </a:rPr>
              <a:t>35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138 - Ρόμβος"/>
          <p:cNvSpPr/>
          <p:nvPr/>
        </p:nvSpPr>
        <p:spPr>
          <a:xfrm rot="20418600">
            <a:off x="1386000" y="7221600"/>
            <a:ext cx="7308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139 - TextBox"/>
          <p:cNvSpPr/>
          <p:nvPr/>
        </p:nvSpPr>
        <p:spPr>
          <a:xfrm rot="20220000">
            <a:off x="1512360" y="7077240"/>
            <a:ext cx="28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Arial"/>
                <a:ea typeface="Arial"/>
              </a:rPr>
              <a:t>25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140 - Ρόμβος"/>
          <p:cNvSpPr/>
          <p:nvPr/>
        </p:nvSpPr>
        <p:spPr>
          <a:xfrm rot="19050600">
            <a:off x="1951200" y="8037360"/>
            <a:ext cx="71280" cy="716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141 - TextBox"/>
          <p:cNvSpPr/>
          <p:nvPr/>
        </p:nvSpPr>
        <p:spPr>
          <a:xfrm rot="18720000">
            <a:off x="2026080" y="7795800"/>
            <a:ext cx="28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1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143 - Ρόμβος"/>
          <p:cNvSpPr/>
          <p:nvPr/>
        </p:nvSpPr>
        <p:spPr>
          <a:xfrm rot="17479200">
            <a:off x="2860560" y="8532000"/>
            <a:ext cx="71640" cy="716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145 - Ρόμβος"/>
          <p:cNvSpPr/>
          <p:nvPr/>
        </p:nvSpPr>
        <p:spPr>
          <a:xfrm flipH="1" rot="4120800">
            <a:off x="3898080" y="8522640"/>
            <a:ext cx="73080" cy="730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146 - TextBox"/>
          <p:cNvSpPr/>
          <p:nvPr/>
        </p:nvSpPr>
        <p:spPr>
          <a:xfrm rot="17280000">
            <a:off x="2863800" y="8247600"/>
            <a:ext cx="21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147 - TextBox"/>
          <p:cNvSpPr/>
          <p:nvPr/>
        </p:nvSpPr>
        <p:spPr>
          <a:xfrm rot="3900000">
            <a:off x="3732480" y="8261280"/>
            <a:ext cx="21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148 - Ρόμβος"/>
          <p:cNvSpPr/>
          <p:nvPr/>
        </p:nvSpPr>
        <p:spPr>
          <a:xfrm flipH="1" rot="2549400">
            <a:off x="4810680" y="8035560"/>
            <a:ext cx="73080" cy="7092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149 - TextBox"/>
          <p:cNvSpPr/>
          <p:nvPr/>
        </p:nvSpPr>
        <p:spPr>
          <a:xfrm flipH="1" rot="2880000">
            <a:off x="4531680" y="7790040"/>
            <a:ext cx="28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1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150 - Ρόμβος"/>
          <p:cNvSpPr/>
          <p:nvPr/>
        </p:nvSpPr>
        <p:spPr>
          <a:xfrm flipH="1" rot="1181400">
            <a:off x="5363640" y="7219440"/>
            <a:ext cx="71640" cy="716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151 - TextBox"/>
          <p:cNvSpPr/>
          <p:nvPr/>
        </p:nvSpPr>
        <p:spPr>
          <a:xfrm flipH="1" rot="1380000">
            <a:off x="5017320" y="7079040"/>
            <a:ext cx="28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2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152 - Ρόμβος"/>
          <p:cNvSpPr/>
          <p:nvPr/>
        </p:nvSpPr>
        <p:spPr>
          <a:xfrm>
            <a:off x="5506920" y="6462720"/>
            <a:ext cx="7308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153 - TextBox"/>
          <p:cNvSpPr/>
          <p:nvPr/>
        </p:nvSpPr>
        <p:spPr>
          <a:xfrm flipH="1">
            <a:off x="5116680" y="6400800"/>
            <a:ext cx="28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3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154 - Ρόμβος"/>
          <p:cNvSpPr/>
          <p:nvPr/>
        </p:nvSpPr>
        <p:spPr>
          <a:xfrm>
            <a:off x="5500800" y="5748480"/>
            <a:ext cx="7128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155 - TextBox"/>
          <p:cNvSpPr/>
          <p:nvPr/>
        </p:nvSpPr>
        <p:spPr>
          <a:xfrm flipH="1">
            <a:off x="5105520" y="5693400"/>
            <a:ext cx="28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4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156 - Ρόμβος"/>
          <p:cNvSpPr/>
          <p:nvPr/>
        </p:nvSpPr>
        <p:spPr>
          <a:xfrm>
            <a:off x="5497560" y="5032440"/>
            <a:ext cx="7128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157 - TextBox"/>
          <p:cNvSpPr/>
          <p:nvPr/>
        </p:nvSpPr>
        <p:spPr>
          <a:xfrm flipH="1">
            <a:off x="5091840" y="4972680"/>
            <a:ext cx="28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5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158 - Ρόμβος"/>
          <p:cNvSpPr/>
          <p:nvPr/>
        </p:nvSpPr>
        <p:spPr>
          <a:xfrm>
            <a:off x="5505480" y="4302000"/>
            <a:ext cx="71280" cy="730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159 - TextBox"/>
          <p:cNvSpPr/>
          <p:nvPr/>
        </p:nvSpPr>
        <p:spPr>
          <a:xfrm flipH="1">
            <a:off x="5099760" y="4245480"/>
            <a:ext cx="28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6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160 - Ρόμβος"/>
          <p:cNvSpPr/>
          <p:nvPr/>
        </p:nvSpPr>
        <p:spPr>
          <a:xfrm>
            <a:off x="5500800" y="3586320"/>
            <a:ext cx="71280" cy="7272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161 - TextBox"/>
          <p:cNvSpPr/>
          <p:nvPr/>
        </p:nvSpPr>
        <p:spPr>
          <a:xfrm flipH="1">
            <a:off x="5102280" y="3527280"/>
            <a:ext cx="28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7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162 - Ρόμβος"/>
          <p:cNvSpPr/>
          <p:nvPr/>
        </p:nvSpPr>
        <p:spPr>
          <a:xfrm>
            <a:off x="5497560" y="2859120"/>
            <a:ext cx="73080" cy="730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163 - TextBox"/>
          <p:cNvSpPr/>
          <p:nvPr/>
        </p:nvSpPr>
        <p:spPr>
          <a:xfrm flipH="1">
            <a:off x="5098320" y="2802600"/>
            <a:ext cx="28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8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164 - Ρόμβος"/>
          <p:cNvSpPr/>
          <p:nvPr/>
        </p:nvSpPr>
        <p:spPr>
          <a:xfrm>
            <a:off x="5497560" y="2144880"/>
            <a:ext cx="7128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165 - TextBox"/>
          <p:cNvSpPr/>
          <p:nvPr/>
        </p:nvSpPr>
        <p:spPr>
          <a:xfrm flipH="1">
            <a:off x="5083920" y="2087640"/>
            <a:ext cx="28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9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166 - TextBox"/>
          <p:cNvSpPr/>
          <p:nvPr/>
        </p:nvSpPr>
        <p:spPr>
          <a:xfrm>
            <a:off x="4976640" y="1365840"/>
            <a:ext cx="39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167 - Ρόμβος"/>
          <p:cNvSpPr/>
          <p:nvPr/>
        </p:nvSpPr>
        <p:spPr>
          <a:xfrm>
            <a:off x="5497560" y="1422360"/>
            <a:ext cx="73080" cy="716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168 - Αριστερό άγκιστρο"/>
          <p:cNvSpPr/>
          <p:nvPr/>
        </p:nvSpPr>
        <p:spPr>
          <a:xfrm flipH="1" rot="1380000">
            <a:off x="5443200" y="6912000"/>
            <a:ext cx="108000" cy="900000"/>
          </a:xfrm>
          <a:custGeom>
            <a:avLst/>
            <a:gdLst>
              <a:gd name="textAreaLeft" fmla="*/ 69480 w 108000"/>
              <a:gd name="textAreaRight" fmla="*/ 108720 w 108000"/>
              <a:gd name="textAreaTop" fmla="*/ 29880 h 900000"/>
              <a:gd name="textAreaBottom" fmla="*/ 87012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6"/>
                  <a:pt x="10800" y="2312"/>
                </a:cubicBezTo>
                <a:lnTo>
                  <a:pt x="10800" y="8488"/>
                </a:lnTo>
                <a:cubicBezTo>
                  <a:pt x="10800" y="9644"/>
                  <a:pt x="5400" y="10800"/>
                  <a:pt x="0" y="10800"/>
                </a:cubicBezTo>
                <a:cubicBezTo>
                  <a:pt x="5400" y="10800"/>
                  <a:pt x="10800" y="11956"/>
                  <a:pt x="10800" y="13112"/>
                </a:cubicBezTo>
                <a:lnTo>
                  <a:pt x="10800" y="19288"/>
                </a:lnTo>
                <a:cubicBezTo>
                  <a:pt x="10800" y="20444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169 - Αριστερό άγκιστρο"/>
          <p:cNvSpPr/>
          <p:nvPr/>
        </p:nvSpPr>
        <p:spPr>
          <a:xfrm flipH="1" rot="180000">
            <a:off x="5642640" y="6200280"/>
            <a:ext cx="107640" cy="721080"/>
          </a:xfrm>
          <a:custGeom>
            <a:avLst/>
            <a:gdLst>
              <a:gd name="textAreaLeft" fmla="*/ 68760 w 107640"/>
              <a:gd name="textAreaRight" fmla="*/ 108000 w 107640"/>
              <a:gd name="textAreaTop" fmla="*/ 29880 h 721080"/>
              <a:gd name="textAreaBottom" fmla="*/ 691200 h 7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170 - Αριστερό άγκιστρο"/>
          <p:cNvSpPr/>
          <p:nvPr/>
        </p:nvSpPr>
        <p:spPr>
          <a:xfrm flipH="1">
            <a:off x="5667480" y="5472000"/>
            <a:ext cx="108000" cy="719280"/>
          </a:xfrm>
          <a:custGeom>
            <a:avLst/>
            <a:gdLst>
              <a:gd name="textAreaLeft" fmla="*/ 69480 w 108000"/>
              <a:gd name="textAreaRight" fmla="*/ 108720 w 108000"/>
              <a:gd name="textAreaTop" fmla="*/ 29880 h 719280"/>
              <a:gd name="textAreaBottom" fmla="*/ 68940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7"/>
                  <a:pt x="10800" y="2894"/>
                </a:cubicBezTo>
                <a:lnTo>
                  <a:pt x="10800" y="7906"/>
                </a:lnTo>
                <a:cubicBezTo>
                  <a:pt x="10800" y="9353"/>
                  <a:pt x="5400" y="10800"/>
                  <a:pt x="0" y="10800"/>
                </a:cubicBezTo>
                <a:cubicBezTo>
                  <a:pt x="5400" y="10800"/>
                  <a:pt x="10800" y="12247"/>
                  <a:pt x="10800" y="13694"/>
                </a:cubicBezTo>
                <a:lnTo>
                  <a:pt x="10800" y="18706"/>
                </a:lnTo>
                <a:cubicBezTo>
                  <a:pt x="10800" y="20153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171 - Αριστερό άγκιστρο"/>
          <p:cNvSpPr/>
          <p:nvPr/>
        </p:nvSpPr>
        <p:spPr>
          <a:xfrm flipH="1">
            <a:off x="5668920" y="4748040"/>
            <a:ext cx="108000" cy="720720"/>
          </a:xfrm>
          <a:custGeom>
            <a:avLst/>
            <a:gdLst>
              <a:gd name="textAreaLeft" fmla="*/ 69480 w 108000"/>
              <a:gd name="textAreaRight" fmla="*/ 108720 w 10800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172 - Αριστερό άγκιστρο"/>
          <p:cNvSpPr/>
          <p:nvPr/>
        </p:nvSpPr>
        <p:spPr>
          <a:xfrm flipH="1">
            <a:off x="5673600" y="4029120"/>
            <a:ext cx="108000" cy="718920"/>
          </a:xfrm>
          <a:custGeom>
            <a:avLst/>
            <a:gdLst>
              <a:gd name="textAreaLeft" fmla="*/ 69480 w 108000"/>
              <a:gd name="textAreaRight" fmla="*/ 108720 w 108000"/>
              <a:gd name="textAreaTop" fmla="*/ 29880 h 718920"/>
              <a:gd name="textAreaBottom" fmla="*/ 68904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7"/>
                  <a:pt x="10800" y="2894"/>
                </a:cubicBezTo>
                <a:lnTo>
                  <a:pt x="10800" y="7906"/>
                </a:lnTo>
                <a:cubicBezTo>
                  <a:pt x="10800" y="9353"/>
                  <a:pt x="5400" y="10800"/>
                  <a:pt x="0" y="10800"/>
                </a:cubicBezTo>
                <a:cubicBezTo>
                  <a:pt x="5400" y="10800"/>
                  <a:pt x="10800" y="12247"/>
                  <a:pt x="10800" y="13694"/>
                </a:cubicBezTo>
                <a:lnTo>
                  <a:pt x="10800" y="18706"/>
                </a:lnTo>
                <a:cubicBezTo>
                  <a:pt x="10800" y="20153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173 - Αριστερό άγκιστρο"/>
          <p:cNvSpPr/>
          <p:nvPr/>
        </p:nvSpPr>
        <p:spPr>
          <a:xfrm flipH="1">
            <a:off x="5684760" y="3303720"/>
            <a:ext cx="108000" cy="718920"/>
          </a:xfrm>
          <a:custGeom>
            <a:avLst/>
            <a:gdLst>
              <a:gd name="textAreaLeft" fmla="*/ 69480 w 108000"/>
              <a:gd name="textAreaRight" fmla="*/ 108720 w 108000"/>
              <a:gd name="textAreaTop" fmla="*/ 29880 h 718920"/>
              <a:gd name="textAreaBottom" fmla="*/ 68904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7"/>
                  <a:pt x="10800" y="2894"/>
                </a:cubicBezTo>
                <a:lnTo>
                  <a:pt x="10800" y="7906"/>
                </a:lnTo>
                <a:cubicBezTo>
                  <a:pt x="10800" y="9353"/>
                  <a:pt x="5400" y="10800"/>
                  <a:pt x="0" y="10800"/>
                </a:cubicBezTo>
                <a:cubicBezTo>
                  <a:pt x="5400" y="10800"/>
                  <a:pt x="10800" y="12247"/>
                  <a:pt x="10800" y="13694"/>
                </a:cubicBezTo>
                <a:lnTo>
                  <a:pt x="10800" y="18706"/>
                </a:lnTo>
                <a:cubicBezTo>
                  <a:pt x="10800" y="20153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174 - Αριστερό άγκιστρο"/>
          <p:cNvSpPr/>
          <p:nvPr/>
        </p:nvSpPr>
        <p:spPr>
          <a:xfrm flipH="1">
            <a:off x="5691240" y="2573280"/>
            <a:ext cx="108000" cy="719280"/>
          </a:xfrm>
          <a:custGeom>
            <a:avLst/>
            <a:gdLst>
              <a:gd name="textAreaLeft" fmla="*/ 69480 w 108000"/>
              <a:gd name="textAreaRight" fmla="*/ 108720 w 108000"/>
              <a:gd name="textAreaTop" fmla="*/ 29880 h 719280"/>
              <a:gd name="textAreaBottom" fmla="*/ 68940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7"/>
                  <a:pt x="10800" y="2894"/>
                </a:cubicBezTo>
                <a:lnTo>
                  <a:pt x="10800" y="7906"/>
                </a:lnTo>
                <a:cubicBezTo>
                  <a:pt x="10800" y="9353"/>
                  <a:pt x="5400" y="10800"/>
                  <a:pt x="0" y="10800"/>
                </a:cubicBezTo>
                <a:cubicBezTo>
                  <a:pt x="5400" y="10800"/>
                  <a:pt x="10800" y="12247"/>
                  <a:pt x="10800" y="13694"/>
                </a:cubicBezTo>
                <a:lnTo>
                  <a:pt x="10800" y="18706"/>
                </a:lnTo>
                <a:cubicBezTo>
                  <a:pt x="10800" y="20153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175 - Αριστερό άγκιστρο"/>
          <p:cNvSpPr/>
          <p:nvPr/>
        </p:nvSpPr>
        <p:spPr>
          <a:xfrm flipH="1">
            <a:off x="5676840" y="1838160"/>
            <a:ext cx="108000" cy="720720"/>
          </a:xfrm>
          <a:custGeom>
            <a:avLst/>
            <a:gdLst>
              <a:gd name="textAreaLeft" fmla="*/ 69480 w 108000"/>
              <a:gd name="textAreaRight" fmla="*/ 108720 w 10800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176 - Αριστερό άγκιστρο"/>
          <p:cNvSpPr/>
          <p:nvPr/>
        </p:nvSpPr>
        <p:spPr>
          <a:xfrm flipH="1">
            <a:off x="5688000" y="1106640"/>
            <a:ext cx="108000" cy="718920"/>
          </a:xfrm>
          <a:custGeom>
            <a:avLst/>
            <a:gdLst>
              <a:gd name="textAreaLeft" fmla="*/ 69480 w 108000"/>
              <a:gd name="textAreaRight" fmla="*/ 108720 w 108000"/>
              <a:gd name="textAreaTop" fmla="*/ 29880 h 718920"/>
              <a:gd name="textAreaBottom" fmla="*/ 68904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7"/>
                  <a:pt x="10800" y="2894"/>
                </a:cubicBezTo>
                <a:lnTo>
                  <a:pt x="10800" y="7906"/>
                </a:lnTo>
                <a:cubicBezTo>
                  <a:pt x="10800" y="9353"/>
                  <a:pt x="5400" y="10800"/>
                  <a:pt x="0" y="10800"/>
                </a:cubicBezTo>
                <a:cubicBezTo>
                  <a:pt x="5400" y="10800"/>
                  <a:pt x="10800" y="12247"/>
                  <a:pt x="10800" y="13694"/>
                </a:cubicBezTo>
                <a:lnTo>
                  <a:pt x="10800" y="18706"/>
                </a:lnTo>
                <a:cubicBezTo>
                  <a:pt x="10800" y="20153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177 - TextBox"/>
          <p:cNvSpPr/>
          <p:nvPr/>
        </p:nvSpPr>
        <p:spPr>
          <a:xfrm rot="14880000">
            <a:off x="4004280" y="8548200"/>
            <a:ext cx="167760" cy="67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180 - TextBox"/>
          <p:cNvSpPr/>
          <p:nvPr/>
        </p:nvSpPr>
        <p:spPr>
          <a:xfrm flipV="1" rot="2820000">
            <a:off x="5032440" y="7975080"/>
            <a:ext cx="167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181 - TextBox"/>
          <p:cNvSpPr/>
          <p:nvPr/>
        </p:nvSpPr>
        <p:spPr>
          <a:xfrm>
            <a:off x="3300480" y="806292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182 - TextBox"/>
          <p:cNvSpPr/>
          <p:nvPr/>
        </p:nvSpPr>
        <p:spPr>
          <a:xfrm flipV="1" rot="1380000">
            <a:off x="5624280" y="708264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183 - TextBox"/>
          <p:cNvSpPr/>
          <p:nvPr/>
        </p:nvSpPr>
        <p:spPr>
          <a:xfrm flipV="1" rot="180000">
            <a:off x="5827320" y="621036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184 - TextBox"/>
          <p:cNvSpPr/>
          <p:nvPr/>
        </p:nvSpPr>
        <p:spPr>
          <a:xfrm flipV="1">
            <a:off x="5852520" y="547776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185 - TextBox"/>
          <p:cNvSpPr/>
          <p:nvPr/>
        </p:nvSpPr>
        <p:spPr>
          <a:xfrm flipV="1">
            <a:off x="5860440" y="469980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187 - TextBox"/>
          <p:cNvSpPr/>
          <p:nvPr/>
        </p:nvSpPr>
        <p:spPr>
          <a:xfrm flipV="1">
            <a:off x="5864760" y="402516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188 - TextBox"/>
          <p:cNvSpPr/>
          <p:nvPr/>
        </p:nvSpPr>
        <p:spPr>
          <a:xfrm flipV="1">
            <a:off x="5874840" y="331092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189 - TextBox"/>
          <p:cNvSpPr/>
          <p:nvPr/>
        </p:nvSpPr>
        <p:spPr>
          <a:xfrm flipV="1">
            <a:off x="5880600" y="257256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190 - TextBox"/>
          <p:cNvSpPr/>
          <p:nvPr/>
        </p:nvSpPr>
        <p:spPr>
          <a:xfrm flipV="1">
            <a:off x="5891400" y="185184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191 - TextBox"/>
          <p:cNvSpPr/>
          <p:nvPr/>
        </p:nvSpPr>
        <p:spPr>
          <a:xfrm flipV="1">
            <a:off x="5878080" y="109944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11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195 - TextBox"/>
          <p:cNvSpPr/>
          <p:nvPr/>
        </p:nvSpPr>
        <p:spPr>
          <a:xfrm>
            <a:off x="641520" y="540360"/>
            <a:ext cx="1295280" cy="27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προ Χριστο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196 - TextBox"/>
          <p:cNvSpPr/>
          <p:nvPr/>
        </p:nvSpPr>
        <p:spPr>
          <a:xfrm>
            <a:off x="4889520" y="612720"/>
            <a:ext cx="1295280" cy="27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μετά Χριστό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198 - TextBox"/>
          <p:cNvSpPr/>
          <p:nvPr/>
        </p:nvSpPr>
        <p:spPr>
          <a:xfrm rot="16200000">
            <a:off x="2612160" y="7140960"/>
            <a:ext cx="1644840" cy="2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Γέννηση Χριστο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7 - TextBox"/>
          <p:cNvSpPr/>
          <p:nvPr/>
        </p:nvSpPr>
        <p:spPr>
          <a:xfrm>
            <a:off x="444600" y="1301760"/>
            <a:ext cx="5975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Ερώτηση: 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</a:rPr>
              <a:t>Πότε αρχίζει και πότε τελειώνει το δεύτερο μισό του 8ου αιώνα π.Χ.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28 - TextBox"/>
          <p:cNvSpPr/>
          <p:nvPr/>
        </p:nvSpPr>
        <p:spPr>
          <a:xfrm>
            <a:off x="0" y="525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Calibri"/>
              </a:rPr>
              <a:t>Εφαρμογές και ασκήσει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32 - Ομάδα"/>
          <p:cNvGrpSpPr/>
          <p:nvPr/>
        </p:nvGrpSpPr>
        <p:grpSpPr>
          <a:xfrm>
            <a:off x="957240" y="2222640"/>
            <a:ext cx="5054760" cy="1800000"/>
            <a:chOff x="957240" y="2222640"/>
            <a:chExt cx="5054760" cy="1800000"/>
          </a:xfrm>
        </p:grpSpPr>
        <p:sp>
          <p:nvSpPr>
            <p:cNvPr id="391" name="9 - Ευθεία γραμμή σύνδεσης"/>
            <p:cNvSpPr/>
            <p:nvPr/>
          </p:nvSpPr>
          <p:spPr>
            <a:xfrm>
              <a:off x="3122640" y="2222640"/>
              <a:ext cx="0" cy="1800000"/>
            </a:xfrm>
            <a:prstGeom prst="line">
              <a:avLst/>
            </a:prstGeom>
            <a:ln cap="rnd" w="507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11 - Ευθεία γραμμή σύνδεσης"/>
            <p:cNvSpPr/>
            <p:nvPr/>
          </p:nvSpPr>
          <p:spPr>
            <a:xfrm>
              <a:off x="2906640" y="2367000"/>
              <a:ext cx="431640" cy="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12 - Ευθεία γραμμή σύνδεσης"/>
            <p:cNvSpPr/>
            <p:nvPr/>
          </p:nvSpPr>
          <p:spPr>
            <a:xfrm>
              <a:off x="2908440" y="3648240"/>
              <a:ext cx="431640" cy="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13 - Ευθεία γραμμή σύνδεσης"/>
            <p:cNvSpPr/>
            <p:nvPr/>
          </p:nvSpPr>
          <p:spPr>
            <a:xfrm>
              <a:off x="3013200" y="2981520"/>
              <a:ext cx="215640" cy="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14 - Δεξιό άγκιστρο"/>
            <p:cNvSpPr/>
            <p:nvPr/>
          </p:nvSpPr>
          <p:spPr>
            <a:xfrm rot="10800000">
              <a:off x="2617560" y="2367000"/>
              <a:ext cx="144360" cy="1224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3120 h 1224000"/>
                <a:gd name="textAreaBottom" fmla="*/ 11908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35"/>
                    <a:pt x="10800" y="1869"/>
                  </a:cubicBezTo>
                  <a:lnTo>
                    <a:pt x="10800" y="8883"/>
                  </a:lnTo>
                  <a:cubicBezTo>
                    <a:pt x="10800" y="9818"/>
                    <a:pt x="16200" y="10752"/>
                    <a:pt x="21600" y="10752"/>
                  </a:cubicBezTo>
                  <a:cubicBezTo>
                    <a:pt x="16200" y="10752"/>
                    <a:pt x="10800" y="11687"/>
                    <a:pt x="10800" y="12621"/>
                  </a:cubicBezTo>
                  <a:lnTo>
                    <a:pt x="10800" y="19731"/>
                  </a:lnTo>
                  <a:cubicBezTo>
                    <a:pt x="10800" y="20666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16 - TextBox"/>
            <p:cNvSpPr/>
            <p:nvPr/>
          </p:nvSpPr>
          <p:spPr>
            <a:xfrm>
              <a:off x="957240" y="2842200"/>
              <a:ext cx="15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Calibri"/>
                </a:rPr>
                <a:t>8ος π.Χ. αιώνα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17 - TextBox"/>
            <p:cNvSpPr/>
            <p:nvPr/>
          </p:nvSpPr>
          <p:spPr>
            <a:xfrm>
              <a:off x="3415320" y="222876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18 - TextBox"/>
            <p:cNvSpPr/>
            <p:nvPr/>
          </p:nvSpPr>
          <p:spPr>
            <a:xfrm>
              <a:off x="3415680" y="2866320"/>
              <a:ext cx="432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7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19 - TextBox"/>
            <p:cNvSpPr/>
            <p:nvPr/>
          </p:nvSpPr>
          <p:spPr>
            <a:xfrm>
              <a:off x="3418200" y="350568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22 - Δεξιό άγκιστρο"/>
            <p:cNvSpPr/>
            <p:nvPr/>
          </p:nvSpPr>
          <p:spPr>
            <a:xfrm>
              <a:off x="3915000" y="2338200"/>
              <a:ext cx="107640" cy="64764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83"/>
                    <a:pt x="10800" y="1765"/>
                  </a:cubicBezTo>
                  <a:lnTo>
                    <a:pt x="10800" y="9035"/>
                  </a:lnTo>
                  <a:cubicBezTo>
                    <a:pt x="10800" y="9918"/>
                    <a:pt x="16200" y="10800"/>
                    <a:pt x="21600" y="10800"/>
                  </a:cubicBezTo>
                  <a:cubicBezTo>
                    <a:pt x="16200" y="10800"/>
                    <a:pt x="10800" y="11683"/>
                    <a:pt x="10800" y="12565"/>
                  </a:cubicBezTo>
                  <a:lnTo>
                    <a:pt x="10800" y="19835"/>
                  </a:lnTo>
                  <a:cubicBezTo>
                    <a:pt x="10800" y="20718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23 - Δεξιό άγκιστρο"/>
            <p:cNvSpPr/>
            <p:nvPr/>
          </p:nvSpPr>
          <p:spPr>
            <a:xfrm>
              <a:off x="3916440" y="2990880"/>
              <a:ext cx="107640" cy="64764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83"/>
                    <a:pt x="10800" y="1765"/>
                  </a:cubicBezTo>
                  <a:lnTo>
                    <a:pt x="10800" y="9035"/>
                  </a:lnTo>
                  <a:cubicBezTo>
                    <a:pt x="10800" y="9918"/>
                    <a:pt x="16200" y="10800"/>
                    <a:pt x="21600" y="10800"/>
                  </a:cubicBezTo>
                  <a:cubicBezTo>
                    <a:pt x="16200" y="10800"/>
                    <a:pt x="10800" y="11683"/>
                    <a:pt x="10800" y="12565"/>
                  </a:cubicBezTo>
                  <a:lnTo>
                    <a:pt x="10800" y="19835"/>
                  </a:lnTo>
                  <a:cubicBezTo>
                    <a:pt x="10800" y="20718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26 - TextBox"/>
            <p:cNvSpPr/>
            <p:nvPr/>
          </p:nvSpPr>
          <p:spPr>
            <a:xfrm>
              <a:off x="4068720" y="2557080"/>
              <a:ext cx="180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Calibri"/>
                </a:rPr>
                <a:t>Πρώτο μισό 8ου π.Χ. α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30 - TextBox"/>
            <p:cNvSpPr/>
            <p:nvPr/>
          </p:nvSpPr>
          <p:spPr>
            <a:xfrm>
              <a:off x="4086360" y="3214080"/>
              <a:ext cx="192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Calibri"/>
                </a:rPr>
                <a:t>Δεύτερο μισό 8ου π.Χ. α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34 - TextBox"/>
          <p:cNvSpPr/>
          <p:nvPr/>
        </p:nvSpPr>
        <p:spPr>
          <a:xfrm>
            <a:off x="447840" y="7834320"/>
            <a:ext cx="5976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Απάντηση: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Το δεύτερο μισό του 8ου προ Χριστού αιώνα αρχίζει το έτος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750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και τελειώνει το έτος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701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36 - TextBox"/>
          <p:cNvSpPr/>
          <p:nvPr/>
        </p:nvSpPr>
        <p:spPr>
          <a:xfrm>
            <a:off x="447840" y="4476600"/>
            <a:ext cx="597672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Για να απαντήσουμε σωστά, κάνουμε το παραπάνω σχήμα στο χαρτί ή στο μυαλό μας χωρίς να ξεχνούμε ότ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1) Όταν αναφερόμαστε σε χρόνια ή αιώνες 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προ Χριστού</a:t>
            </a: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, το βέλος είναι στραμμένο 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προς τα κάτω</a:t>
            </a: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2) Στα προ Χριστού χρόνια η αρίθμηση είναι 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καθοδική</a:t>
            </a: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 (800, 799, 798, κτλ.). Οι μεγαλύτεροι αριθμοί προηγούνται και οι μικρότεροι έπονται. Όταν τελειώνει το έτος 800, για παράδειγμα,  δεν αρχίζει το έτος 801 αλλά το έτος 799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3) Όταν αναφερόμαστε σε χρόνια ή αιώνες προ Χριστού, οι μεγαλύτεροι αριθμοί αντιπροσωπεύουν  χρόνια ή αιώνες  που απέχουν περισσότερο από εμάς (δηλαδή το έτος 700 είναι πιο κοντά σ’ εμάς από το έτος 80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37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2 - Ορθογώνιο"/>
          <p:cNvSpPr/>
          <p:nvPr/>
        </p:nvSpPr>
        <p:spPr>
          <a:xfrm>
            <a:off x="476280" y="8269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Ερώτηση: 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τε αρχίζει και πότε τελειώνει το πρώτο μισό του 5ου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μ.Χ.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αιώνα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4 - Ευθεία γραμμή σύνδεσης"/>
          <p:cNvSpPr/>
          <p:nvPr/>
        </p:nvSpPr>
        <p:spPr>
          <a:xfrm>
            <a:off x="3102120" y="1763640"/>
            <a:ext cx="0" cy="1800360"/>
          </a:xfrm>
          <a:prstGeom prst="line">
            <a:avLst/>
          </a:prstGeom>
          <a:ln cap="rnd" w="507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5 - Ευθεία γραμμή σύνδεσης"/>
          <p:cNvSpPr/>
          <p:nvPr/>
        </p:nvSpPr>
        <p:spPr>
          <a:xfrm>
            <a:off x="2886120" y="2152800"/>
            <a:ext cx="431640" cy="0"/>
          </a:xfrm>
          <a:prstGeom prst="line">
            <a:avLst/>
          </a:prstGeom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6 - Ευθεία γραμμή σύνδεσης"/>
          <p:cNvSpPr/>
          <p:nvPr/>
        </p:nvSpPr>
        <p:spPr>
          <a:xfrm>
            <a:off x="2889360" y="3370320"/>
            <a:ext cx="431640" cy="0"/>
          </a:xfrm>
          <a:prstGeom prst="line">
            <a:avLst/>
          </a:prstGeom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7 - Ευθεία γραμμή σύνδεσης"/>
          <p:cNvSpPr/>
          <p:nvPr/>
        </p:nvSpPr>
        <p:spPr>
          <a:xfrm>
            <a:off x="2992320" y="2755800"/>
            <a:ext cx="216000" cy="0"/>
          </a:xfrm>
          <a:prstGeom prst="line">
            <a:avLst/>
          </a:prstGeom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8 - Δεξιό άγκιστρο"/>
          <p:cNvSpPr/>
          <p:nvPr/>
        </p:nvSpPr>
        <p:spPr>
          <a:xfrm rot="10800000">
            <a:off x="2597040" y="2146320"/>
            <a:ext cx="144720" cy="1224000"/>
          </a:xfrm>
          <a:custGeom>
            <a:avLst/>
            <a:gdLst>
              <a:gd name="textAreaLeft" fmla="*/ 0 w 144720"/>
              <a:gd name="textAreaRight" fmla="*/ 52200 w 144720"/>
              <a:gd name="textAreaTop" fmla="*/ 33120 h 1224000"/>
              <a:gd name="textAreaBottom" fmla="*/ 11908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35"/>
                  <a:pt x="10800" y="1869"/>
                </a:cubicBezTo>
                <a:lnTo>
                  <a:pt x="10800" y="8883"/>
                </a:lnTo>
                <a:cubicBezTo>
                  <a:pt x="10800" y="9818"/>
                  <a:pt x="16200" y="10752"/>
                  <a:pt x="21600" y="10752"/>
                </a:cubicBezTo>
                <a:cubicBezTo>
                  <a:pt x="16200" y="10752"/>
                  <a:pt x="10800" y="11687"/>
                  <a:pt x="10800" y="12621"/>
                </a:cubicBezTo>
                <a:lnTo>
                  <a:pt x="10800" y="19731"/>
                </a:lnTo>
                <a:cubicBezTo>
                  <a:pt x="10800" y="20666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9 - TextBox"/>
          <p:cNvSpPr/>
          <p:nvPr/>
        </p:nvSpPr>
        <p:spPr>
          <a:xfrm>
            <a:off x="849240" y="2612160"/>
            <a:ext cx="158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5ος μ.Χ. αιώνα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10 - TextBox"/>
          <p:cNvSpPr/>
          <p:nvPr/>
        </p:nvSpPr>
        <p:spPr>
          <a:xfrm>
            <a:off x="3394080" y="202788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11 - TextBox"/>
          <p:cNvSpPr/>
          <p:nvPr/>
        </p:nvSpPr>
        <p:spPr>
          <a:xfrm>
            <a:off x="3395520" y="26460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12 - TextBox"/>
          <p:cNvSpPr/>
          <p:nvPr/>
        </p:nvSpPr>
        <p:spPr>
          <a:xfrm>
            <a:off x="3397320" y="323604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13 - Δεξιό άγκιστρο"/>
          <p:cNvSpPr/>
          <p:nvPr/>
        </p:nvSpPr>
        <p:spPr>
          <a:xfrm>
            <a:off x="3894120" y="2108160"/>
            <a:ext cx="108000" cy="647640"/>
          </a:xfrm>
          <a:custGeom>
            <a:avLst/>
            <a:gdLst>
              <a:gd name="textAreaLeft" fmla="*/ 0 w 108000"/>
              <a:gd name="textAreaRight" fmla="*/ 38880 w 108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83"/>
                  <a:pt x="10800" y="1765"/>
                </a:cubicBezTo>
                <a:lnTo>
                  <a:pt x="10800" y="9035"/>
                </a:lnTo>
                <a:cubicBezTo>
                  <a:pt x="10800" y="9918"/>
                  <a:pt x="16200" y="10800"/>
                  <a:pt x="21600" y="10800"/>
                </a:cubicBezTo>
                <a:cubicBezTo>
                  <a:pt x="16200" y="10800"/>
                  <a:pt x="10800" y="11683"/>
                  <a:pt x="10800" y="12565"/>
                </a:cubicBezTo>
                <a:lnTo>
                  <a:pt x="10800" y="19835"/>
                </a:lnTo>
                <a:cubicBezTo>
                  <a:pt x="10800" y="20718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14 - Δεξιό άγκιστρο"/>
          <p:cNvSpPr/>
          <p:nvPr/>
        </p:nvSpPr>
        <p:spPr>
          <a:xfrm>
            <a:off x="3895560" y="2755800"/>
            <a:ext cx="108000" cy="647640"/>
          </a:xfrm>
          <a:custGeom>
            <a:avLst/>
            <a:gdLst>
              <a:gd name="textAreaLeft" fmla="*/ 0 w 108000"/>
              <a:gd name="textAreaRight" fmla="*/ 38880 w 108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83"/>
                  <a:pt x="10800" y="1765"/>
                </a:cubicBezTo>
                <a:lnTo>
                  <a:pt x="10800" y="9035"/>
                </a:lnTo>
                <a:cubicBezTo>
                  <a:pt x="10800" y="9918"/>
                  <a:pt x="16200" y="10800"/>
                  <a:pt x="21600" y="10800"/>
                </a:cubicBezTo>
                <a:cubicBezTo>
                  <a:pt x="16200" y="10800"/>
                  <a:pt x="10800" y="11683"/>
                  <a:pt x="10800" y="12565"/>
                </a:cubicBezTo>
                <a:lnTo>
                  <a:pt x="10800" y="19835"/>
                </a:lnTo>
                <a:cubicBezTo>
                  <a:pt x="10800" y="20718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15 - TextBox"/>
          <p:cNvSpPr/>
          <p:nvPr/>
        </p:nvSpPr>
        <p:spPr>
          <a:xfrm>
            <a:off x="4110120" y="2972160"/>
            <a:ext cx="180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</a:rPr>
              <a:t>Πρώτο μισό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</a:rPr>
              <a:t>ου μ.Χ. α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16 - TextBox"/>
          <p:cNvSpPr/>
          <p:nvPr/>
        </p:nvSpPr>
        <p:spPr>
          <a:xfrm>
            <a:off x="4076640" y="2326680"/>
            <a:ext cx="192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</a:rPr>
              <a:t>Δεύτερο μισό 5ου μ.Χ. α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21 - TextBox"/>
          <p:cNvSpPr/>
          <p:nvPr/>
        </p:nvSpPr>
        <p:spPr>
          <a:xfrm>
            <a:off x="447840" y="4130640"/>
            <a:ext cx="59767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Για να απαντήσουμε σωστά, κάνουμε το παραπάνω σχήμα στο χαρτί ή στο μυαλό μας χωρίς να ξεχνούμε ότ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1) Όταν αναφερόμαστε σε χρόνια ή αιώνες 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μετά Χριστόν</a:t>
            </a: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, το βέλος είναι στραμμένο 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προς τα επάνω</a:t>
            </a: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2) Στα μετά Χριστόν χρόνια η αρίθμηση είναι 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ανοδική</a:t>
            </a: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 (400, 401, 402, κτλ.). Οι </a:t>
            </a: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μικρότεροι </a:t>
            </a: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αριθμοί προηγούνται και οι </a:t>
            </a: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μεγαλύτεροι </a:t>
            </a: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έπονται. Όταν τελειώνει το έτος 400, για παράδειγμα, αρχίζει κανονικά το έτος 401 (και όχι το έτος 399, όπως είδαμε να συμβαίνει στα προ Χριστού έτη)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3) Όταν αναφερόμαστε σε χρόνια ή αιώνες μετά Χριστόν, οι μεγαλύτεροι αριθμοί αντιπροσωπεύουν  χρόνια ή αιώνες  που είναι πιο κοντά σ’ εμάς (δηλαδή το έτος 500 είναι πιο κοντά σ’ εμάς από το έτος 40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22 - Ορθογώνιο"/>
          <p:cNvSpPr/>
          <p:nvPr/>
        </p:nvSpPr>
        <p:spPr>
          <a:xfrm>
            <a:off x="452520" y="7596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Απάντηση: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Το δεύτερο μισό του 5ου μετά Χριστόν αιώνα αρχίζει το έτος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401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και τελειώνει το έτος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450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2T20:14:27Z</dcterms:created>
  <dc:creator>Χρίστος</dc:creator>
  <dc:description/>
  <dc:language>en-US</dc:language>
  <cp:lastModifiedBy>Ιάκωβος Μιχαηλίδης</cp:lastModifiedBy>
  <dcterms:modified xsi:type="dcterms:W3CDTF">2021-08-04T12:36:40Z</dcterms:modified>
  <cp:revision>313</cp:revision>
  <dc:subject/>
  <dc:title>Διαφάνεια 1</dc:title>
</cp:coreProperties>
</file>